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B00-4323-44C6-83CA-F59F9610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E1C6-1A39-4FC8-8490-02AD16AF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CCF9-9F67-4D6F-AAA4-E52F1A2A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814-C54A-4AED-945E-C25B2E58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B7A0-81CF-4EE1-989C-6CA17CE8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098A-0DE8-4EB2-B61A-BFDAFEC7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02C4-AA5A-4D59-9B28-F4FBFEA5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CED6-517C-40F5-8869-47A747E4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F08E-376D-41A1-88A6-B6FFA8AA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A032-ECE6-477B-88A2-8B391E2E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A0FF-4C71-4838-A50D-9CDD4D87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79DE-0EE3-483D-BD95-BE93E0E6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879C-CB1F-4FD4-B6AF-35C34EA1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2684-F550-4F64-B545-AD3B0DBD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0B75-B7CE-4146-9E5E-4568ED4B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C892-2742-490B-A2A1-8AEA3D87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0039-3EFD-43AF-A278-A9E6AD5D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C0C-BC40-4583-8483-9D224DBF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6EE-328A-4FEB-A81E-C508CFE7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BD23-644C-496B-A9C1-A92C60C3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B14E-1838-43B5-9423-F4B59672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0507-2439-4B93-A018-004C8B9C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F09-E3D4-49B9-BDFE-69211534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914-32B1-4D1C-B21F-6335DB50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74B4-7318-4477-85E0-E19D819F8B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CC1C-9E30-42EF-A12A-E276A69EA2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ackiewetmore.wikispace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Garamond"/>
              </a:rPr>
              <a:t>Getting Started on our Course Website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ype into your address line:</a:t>
            </a:r>
            <a:br>
              <a:rPr sz="3600"/>
            </a:br>
            <a:r>
              <a:rPr b="0" lang="en-US" sz="3600" spc="-1" strike="noStrike" u="sng">
                <a:solidFill>
                  <a:srgbClr val="3dccff"/>
                </a:solidFill>
                <a:uFillTx/>
                <a:latin typeface="Garamond"/>
                <a:hlinkClick r:id="rId1"/>
              </a:rPr>
              <a:t>www.jackiewetmore.wikispaces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0" t="3711" r="20370" b="88035"/>
          <a:stretch/>
        </p:blipFill>
        <p:spPr>
          <a:xfrm>
            <a:off x="914400" y="4800600"/>
            <a:ext cx="8229600" cy="639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The course Google calendar with test/quiz schedule and links to class notes and homework can be accessed from the course page or the navigation bar to the right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943760" y="3409920"/>
            <a:ext cx="914400" cy="31680"/>
          </a:xfrm>
          <a:custGeom>
            <a:avLst/>
            <a:gdLst/>
            <a:ahLst/>
            <a:rect l="l" t="t" r="r" b="b"/>
            <a:pathLst>
              <a:path w="2542" h="85">
                <a:moveTo>
                  <a:pt x="22094" y="9482"/>
                </a:moveTo>
                <a:cubicBezTo>
                  <a:pt x="22089" y="9480"/>
                  <a:pt x="22085" y="9477"/>
                  <a:pt x="22080" y="9475"/>
                </a:cubicBezTo>
                <a:cubicBezTo>
                  <a:pt x="22091" y="9509"/>
                  <a:pt x="22044" y="9504"/>
                  <a:pt x="22096" y="9524"/>
                </a:cubicBezTo>
                <a:cubicBezTo>
                  <a:pt x="22118" y="9532"/>
                  <a:pt x="22152" y="9523"/>
                  <a:pt x="22174" y="9525"/>
                </a:cubicBezTo>
                <a:cubicBezTo>
                  <a:pt x="22210" y="9529"/>
                  <a:pt x="22246" y="9534"/>
                  <a:pt x="22282" y="9536"/>
                </a:cubicBezTo>
                <a:cubicBezTo>
                  <a:pt x="22336" y="9539"/>
                  <a:pt x="22390" y="9541"/>
                  <a:pt x="22442" y="9546"/>
                </a:cubicBezTo>
                <a:cubicBezTo>
                  <a:pt x="22500" y="9552"/>
                  <a:pt x="22557" y="9562"/>
                  <a:pt x="22615" y="9555"/>
                </a:cubicBezTo>
                <a:cubicBezTo>
                  <a:pt x="22635" y="9553"/>
                  <a:pt x="22654" y="9548"/>
                  <a:pt x="22674" y="9546"/>
                </a:cubicBezTo>
                <a:cubicBezTo>
                  <a:pt x="22700" y="9544"/>
                  <a:pt x="22726" y="9543"/>
                  <a:pt x="22752" y="9542"/>
                </a:cubicBezTo>
                <a:cubicBezTo>
                  <a:pt x="22819" y="9540"/>
                  <a:pt x="22884" y="9536"/>
                  <a:pt x="22951" y="9536"/>
                </a:cubicBezTo>
                <a:cubicBezTo>
                  <a:pt x="22992" y="9536"/>
                  <a:pt x="23033" y="9535"/>
                  <a:pt x="23074" y="9533"/>
                </a:cubicBezTo>
                <a:cubicBezTo>
                  <a:pt x="23107" y="9532"/>
                  <a:pt x="23141" y="9532"/>
                  <a:pt x="23174" y="9530"/>
                </a:cubicBezTo>
                <a:cubicBezTo>
                  <a:pt x="23228" y="9526"/>
                  <a:pt x="23283" y="9518"/>
                  <a:pt x="23337" y="9517"/>
                </a:cubicBezTo>
                <a:cubicBezTo>
                  <a:pt x="23363" y="9517"/>
                  <a:pt x="23387" y="9518"/>
                  <a:pt x="23413" y="9517"/>
                </a:cubicBezTo>
                <a:cubicBezTo>
                  <a:pt x="23435" y="9516"/>
                  <a:pt x="23456" y="9515"/>
                  <a:pt x="23478" y="9514"/>
                </a:cubicBezTo>
                <a:cubicBezTo>
                  <a:pt x="23528" y="9513"/>
                  <a:pt x="23578" y="9515"/>
                  <a:pt x="23628" y="9517"/>
                </a:cubicBezTo>
                <a:cubicBezTo>
                  <a:pt x="23650" y="9518"/>
                  <a:pt x="23672" y="9517"/>
                  <a:pt x="23694" y="9517"/>
                </a:cubicBezTo>
                <a:cubicBezTo>
                  <a:pt x="23739" y="9516"/>
                  <a:pt x="23785" y="9516"/>
                  <a:pt x="23830" y="9514"/>
                </a:cubicBezTo>
                <a:cubicBezTo>
                  <a:pt x="23890" y="9511"/>
                  <a:pt x="23947" y="9502"/>
                  <a:pt x="24007" y="9503"/>
                </a:cubicBezTo>
                <a:cubicBezTo>
                  <a:pt x="24035" y="9503"/>
                  <a:pt x="24061" y="9504"/>
                  <a:pt x="24089" y="9502"/>
                </a:cubicBezTo>
                <a:cubicBezTo>
                  <a:pt x="24148" y="9497"/>
                  <a:pt x="24200" y="9497"/>
                  <a:pt x="24259" y="9499"/>
                </a:cubicBezTo>
                <a:cubicBezTo>
                  <a:pt x="24305" y="9501"/>
                  <a:pt x="24353" y="9500"/>
                  <a:pt x="24399" y="9497"/>
                </a:cubicBezTo>
                <a:cubicBezTo>
                  <a:pt x="24456" y="9493"/>
                  <a:pt x="24521" y="9492"/>
                  <a:pt x="24577" y="9483"/>
                </a:cubicBezTo>
                <a:cubicBezTo>
                  <a:pt x="24593" y="9481"/>
                  <a:pt x="24580" y="9478"/>
                  <a:pt x="24595" y="947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800" y="4800600"/>
            <a:ext cx="4498920" cy="114480"/>
          </a:xfrm>
          <a:custGeom>
            <a:avLst/>
            <a:gdLst/>
            <a:ahLst/>
            <a:rect l="l" t="t" r="r" b="b"/>
            <a:pathLst>
              <a:path w="12495" h="315">
                <a:moveTo>
                  <a:pt x="2145" y="13620"/>
                </a:moveTo>
                <a:cubicBezTo>
                  <a:pt x="2177" y="13623"/>
                  <a:pt x="2173" y="13647"/>
                  <a:pt x="2205" y="13647"/>
                </a:cubicBezTo>
                <a:cubicBezTo>
                  <a:pt x="2388" y="13648"/>
                  <a:pt x="2565" y="13612"/>
                  <a:pt x="2751" y="13612"/>
                </a:cubicBezTo>
                <a:cubicBezTo>
                  <a:pt x="2988" y="13612"/>
                  <a:pt x="3222" y="13648"/>
                  <a:pt x="3458" y="13648"/>
                </a:cubicBezTo>
                <a:cubicBezTo>
                  <a:pt x="3630" y="13648"/>
                  <a:pt x="3804" y="13646"/>
                  <a:pt x="3975" y="13640"/>
                </a:cubicBezTo>
                <a:cubicBezTo>
                  <a:pt x="4321" y="13627"/>
                  <a:pt x="4661" y="13597"/>
                  <a:pt x="5007" y="13603"/>
                </a:cubicBezTo>
                <a:cubicBezTo>
                  <a:pt x="5155" y="13605"/>
                  <a:pt x="5301" y="13603"/>
                  <a:pt x="5449" y="13603"/>
                </a:cubicBezTo>
                <a:cubicBezTo>
                  <a:pt x="5757" y="13602"/>
                  <a:pt x="6063" y="13590"/>
                  <a:pt x="6370" y="13589"/>
                </a:cubicBezTo>
                <a:cubicBezTo>
                  <a:pt x="6759" y="13588"/>
                  <a:pt x="7149" y="13600"/>
                  <a:pt x="7536" y="13595"/>
                </a:cubicBezTo>
                <a:cubicBezTo>
                  <a:pt x="7782" y="13592"/>
                  <a:pt x="8025" y="13590"/>
                  <a:pt x="8271" y="13590"/>
                </a:cubicBezTo>
                <a:cubicBezTo>
                  <a:pt x="8610" y="13591"/>
                  <a:pt x="8948" y="13539"/>
                  <a:pt x="9287" y="13531"/>
                </a:cubicBezTo>
                <a:cubicBezTo>
                  <a:pt x="9718" y="13521"/>
                  <a:pt x="10151" y="13542"/>
                  <a:pt x="10581" y="13517"/>
                </a:cubicBezTo>
                <a:cubicBezTo>
                  <a:pt x="10750" y="13507"/>
                  <a:pt x="10919" y="13496"/>
                  <a:pt x="11087" y="13478"/>
                </a:cubicBezTo>
                <a:cubicBezTo>
                  <a:pt x="11252" y="13460"/>
                  <a:pt x="11414" y="13426"/>
                  <a:pt x="11578" y="13404"/>
                </a:cubicBezTo>
                <a:cubicBezTo>
                  <a:pt x="11688" y="13389"/>
                  <a:pt x="11770" y="13396"/>
                  <a:pt x="11878" y="13404"/>
                </a:cubicBezTo>
                <a:cubicBezTo>
                  <a:pt x="12091" y="13419"/>
                  <a:pt x="12302" y="13442"/>
                  <a:pt x="12515" y="13456"/>
                </a:cubicBezTo>
                <a:cubicBezTo>
                  <a:pt x="12769" y="13472"/>
                  <a:pt x="13025" y="13483"/>
                  <a:pt x="13279" y="13471"/>
                </a:cubicBezTo>
                <a:cubicBezTo>
                  <a:pt x="13469" y="13462"/>
                  <a:pt x="13650" y="13423"/>
                  <a:pt x="13838" y="13398"/>
                </a:cubicBezTo>
                <a:cubicBezTo>
                  <a:pt x="13980" y="13379"/>
                  <a:pt x="14130" y="13343"/>
                  <a:pt x="14271" y="13343"/>
                </a:cubicBezTo>
                <a:cubicBezTo>
                  <a:pt x="14361" y="13343"/>
                  <a:pt x="14447" y="13356"/>
                  <a:pt x="14535" y="13376"/>
                </a:cubicBezTo>
                <a:cubicBezTo>
                  <a:pt x="14565" y="13383"/>
                  <a:pt x="14600" y="13411"/>
                  <a:pt x="14625" y="13418"/>
                </a:cubicBezTo>
                <a:cubicBezTo>
                  <a:pt x="14604" y="13412"/>
                  <a:pt x="14598" y="13410"/>
                  <a:pt x="14587" y="1340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0040" y="4789440"/>
            <a:ext cx="4371840" cy="81000"/>
          </a:xfrm>
          <a:custGeom>
            <a:avLst/>
            <a:gdLst/>
            <a:ahLst/>
            <a:rect l="l" t="t" r="r" b="b"/>
            <a:pathLst>
              <a:path w="12142" h="226">
                <a:moveTo>
                  <a:pt x="2159" y="13406"/>
                </a:moveTo>
                <a:cubicBezTo>
                  <a:pt x="2200" y="13421"/>
                  <a:pt x="2184" y="13453"/>
                  <a:pt x="2227" y="13462"/>
                </a:cubicBezTo>
                <a:cubicBezTo>
                  <a:pt x="2484" y="13518"/>
                  <a:pt x="2773" y="13468"/>
                  <a:pt x="3036" y="13479"/>
                </a:cubicBezTo>
                <a:cubicBezTo>
                  <a:pt x="3296" y="13490"/>
                  <a:pt x="3557" y="13503"/>
                  <a:pt x="3817" y="13517"/>
                </a:cubicBezTo>
                <a:cubicBezTo>
                  <a:pt x="4013" y="13527"/>
                  <a:pt x="4207" y="13523"/>
                  <a:pt x="4404" y="13514"/>
                </a:cubicBezTo>
                <a:cubicBezTo>
                  <a:pt x="4642" y="13503"/>
                  <a:pt x="4878" y="13475"/>
                  <a:pt x="5114" y="13451"/>
                </a:cubicBezTo>
                <a:cubicBezTo>
                  <a:pt x="5245" y="13437"/>
                  <a:pt x="5369" y="13433"/>
                  <a:pt x="5501" y="13432"/>
                </a:cubicBezTo>
                <a:cubicBezTo>
                  <a:pt x="5969" y="13428"/>
                  <a:pt x="6431" y="13439"/>
                  <a:pt x="6898" y="13454"/>
                </a:cubicBezTo>
                <a:cubicBezTo>
                  <a:pt x="7162" y="13462"/>
                  <a:pt x="7424" y="13495"/>
                  <a:pt x="7688" y="13489"/>
                </a:cubicBezTo>
                <a:cubicBezTo>
                  <a:pt x="8026" y="13481"/>
                  <a:pt x="8364" y="13488"/>
                  <a:pt x="8703" y="13471"/>
                </a:cubicBezTo>
                <a:cubicBezTo>
                  <a:pt x="9007" y="13456"/>
                  <a:pt x="9302" y="13383"/>
                  <a:pt x="9604" y="13354"/>
                </a:cubicBezTo>
                <a:cubicBezTo>
                  <a:pt x="9885" y="13327"/>
                  <a:pt x="10145" y="13409"/>
                  <a:pt x="10423" y="13429"/>
                </a:cubicBezTo>
                <a:cubicBezTo>
                  <a:pt x="10591" y="13441"/>
                  <a:pt x="10779" y="13444"/>
                  <a:pt x="10946" y="13434"/>
                </a:cubicBezTo>
                <a:cubicBezTo>
                  <a:pt x="11058" y="13427"/>
                  <a:pt x="11166" y="13404"/>
                  <a:pt x="11278" y="13396"/>
                </a:cubicBezTo>
                <a:cubicBezTo>
                  <a:pt x="11457" y="13383"/>
                  <a:pt x="11639" y="13385"/>
                  <a:pt x="11820" y="13382"/>
                </a:cubicBezTo>
                <a:cubicBezTo>
                  <a:pt x="12074" y="13378"/>
                  <a:pt x="12319" y="13386"/>
                  <a:pt x="12572" y="13361"/>
                </a:cubicBezTo>
                <a:cubicBezTo>
                  <a:pt x="12741" y="13344"/>
                  <a:pt x="12911" y="13312"/>
                  <a:pt x="13078" y="13312"/>
                </a:cubicBezTo>
                <a:cubicBezTo>
                  <a:pt x="13261" y="13311"/>
                  <a:pt x="13448" y="13322"/>
                  <a:pt x="13632" y="13329"/>
                </a:cubicBezTo>
                <a:cubicBezTo>
                  <a:pt x="13757" y="13334"/>
                  <a:pt x="13883" y="13344"/>
                  <a:pt x="14007" y="13354"/>
                </a:cubicBezTo>
                <a:cubicBezTo>
                  <a:pt x="14099" y="13361"/>
                  <a:pt x="14188" y="13365"/>
                  <a:pt x="14280" y="1336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0040" y="4916520"/>
            <a:ext cx="4516200" cy="108000"/>
          </a:xfrm>
          <a:custGeom>
            <a:avLst/>
            <a:gdLst/>
            <a:ahLst/>
            <a:rect l="l" t="t" r="r" b="b"/>
            <a:pathLst>
              <a:path w="12545" h="301">
                <a:moveTo>
                  <a:pt x="2189" y="13667"/>
                </a:moveTo>
                <a:cubicBezTo>
                  <a:pt x="2171" y="13666"/>
                  <a:pt x="2157" y="13668"/>
                  <a:pt x="2140" y="13668"/>
                </a:cubicBezTo>
                <a:cubicBezTo>
                  <a:pt x="2250" y="13677"/>
                  <a:pt x="2344" y="13704"/>
                  <a:pt x="2460" y="13693"/>
                </a:cubicBezTo>
                <a:cubicBezTo>
                  <a:pt x="2753" y="13666"/>
                  <a:pt x="2942" y="13716"/>
                  <a:pt x="3229" y="13761"/>
                </a:cubicBezTo>
                <a:cubicBezTo>
                  <a:pt x="3619" y="13823"/>
                  <a:pt x="4040" y="13788"/>
                  <a:pt x="4434" y="13793"/>
                </a:cubicBezTo>
                <a:cubicBezTo>
                  <a:pt x="4793" y="13797"/>
                  <a:pt x="5154" y="13840"/>
                  <a:pt x="5513" y="13859"/>
                </a:cubicBezTo>
                <a:cubicBezTo>
                  <a:pt x="5700" y="13869"/>
                  <a:pt x="5887" y="13881"/>
                  <a:pt x="6074" y="13886"/>
                </a:cubicBezTo>
                <a:cubicBezTo>
                  <a:pt x="6470" y="13898"/>
                  <a:pt x="6864" y="13927"/>
                  <a:pt x="7260" y="13936"/>
                </a:cubicBezTo>
                <a:cubicBezTo>
                  <a:pt x="7618" y="13944"/>
                  <a:pt x="7975" y="13955"/>
                  <a:pt x="8332" y="13937"/>
                </a:cubicBezTo>
                <a:cubicBezTo>
                  <a:pt x="8666" y="13921"/>
                  <a:pt x="8996" y="13947"/>
                  <a:pt x="9328" y="13937"/>
                </a:cubicBezTo>
                <a:cubicBezTo>
                  <a:pt x="9718" y="13926"/>
                  <a:pt x="10103" y="13862"/>
                  <a:pt x="10494" y="13868"/>
                </a:cubicBezTo>
                <a:cubicBezTo>
                  <a:pt x="10810" y="13873"/>
                  <a:pt x="11111" y="13849"/>
                  <a:pt x="11423" y="13836"/>
                </a:cubicBezTo>
                <a:cubicBezTo>
                  <a:pt x="11934" y="13814"/>
                  <a:pt x="12452" y="13835"/>
                  <a:pt x="12963" y="13881"/>
                </a:cubicBezTo>
                <a:cubicBezTo>
                  <a:pt x="13244" y="13906"/>
                  <a:pt x="13487" y="13897"/>
                  <a:pt x="13766" y="13868"/>
                </a:cubicBezTo>
                <a:cubicBezTo>
                  <a:pt x="13979" y="13846"/>
                  <a:pt x="14189" y="13835"/>
                  <a:pt x="14401" y="13870"/>
                </a:cubicBezTo>
                <a:cubicBezTo>
                  <a:pt x="14500" y="13886"/>
                  <a:pt x="14596" y="13926"/>
                  <a:pt x="14684" y="13914"/>
                </a:cubicBezTo>
                <a:cubicBezTo>
                  <a:pt x="14700" y="13912"/>
                  <a:pt x="14648" y="13879"/>
                  <a:pt x="14664" y="1387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4080" y="4938840"/>
            <a:ext cx="530280" cy="55440"/>
          </a:xfrm>
          <a:custGeom>
            <a:avLst/>
            <a:gdLst/>
            <a:ahLst/>
            <a:rect l="l" t="t" r="r" b="b"/>
            <a:pathLst>
              <a:path w="1474" h="155">
                <a:moveTo>
                  <a:pt x="2206" y="13718"/>
                </a:moveTo>
                <a:cubicBezTo>
                  <a:pt x="2199" y="13732"/>
                  <a:pt x="2171" y="13764"/>
                  <a:pt x="2178" y="13784"/>
                </a:cubicBezTo>
                <a:cubicBezTo>
                  <a:pt x="2187" y="13809"/>
                  <a:pt x="2220" y="13816"/>
                  <a:pt x="2241" y="13823"/>
                </a:cubicBezTo>
                <a:cubicBezTo>
                  <a:pt x="2269" y="13832"/>
                  <a:pt x="2302" y="13837"/>
                  <a:pt x="2331" y="13842"/>
                </a:cubicBezTo>
                <a:cubicBezTo>
                  <a:pt x="2374" y="13850"/>
                  <a:pt x="2420" y="13851"/>
                  <a:pt x="2463" y="13854"/>
                </a:cubicBezTo>
                <a:cubicBezTo>
                  <a:pt x="2499" y="13857"/>
                  <a:pt x="2535" y="13864"/>
                  <a:pt x="2570" y="13867"/>
                </a:cubicBezTo>
                <a:cubicBezTo>
                  <a:pt x="2596" y="13869"/>
                  <a:pt x="2621" y="13871"/>
                  <a:pt x="2646" y="13872"/>
                </a:cubicBezTo>
                <a:cubicBezTo>
                  <a:pt x="2712" y="13874"/>
                  <a:pt x="2779" y="13870"/>
                  <a:pt x="2844" y="13868"/>
                </a:cubicBezTo>
                <a:cubicBezTo>
                  <a:pt x="2889" y="13866"/>
                  <a:pt x="2933" y="13864"/>
                  <a:pt x="2978" y="13862"/>
                </a:cubicBezTo>
                <a:cubicBezTo>
                  <a:pt x="3031" y="13859"/>
                  <a:pt x="3084" y="13856"/>
                  <a:pt x="3137" y="13856"/>
                </a:cubicBezTo>
                <a:cubicBezTo>
                  <a:pt x="3166" y="13856"/>
                  <a:pt x="3194" y="13857"/>
                  <a:pt x="3223" y="13859"/>
                </a:cubicBezTo>
                <a:cubicBezTo>
                  <a:pt x="3258" y="13861"/>
                  <a:pt x="3293" y="13860"/>
                  <a:pt x="3328" y="13859"/>
                </a:cubicBezTo>
                <a:cubicBezTo>
                  <a:pt x="3359" y="13858"/>
                  <a:pt x="3391" y="13859"/>
                  <a:pt x="3422" y="13856"/>
                </a:cubicBezTo>
                <a:cubicBezTo>
                  <a:pt x="3456" y="13853"/>
                  <a:pt x="3488" y="13849"/>
                  <a:pt x="3522" y="13848"/>
                </a:cubicBezTo>
                <a:cubicBezTo>
                  <a:pt x="3565" y="13847"/>
                  <a:pt x="3608" y="13847"/>
                  <a:pt x="3651" y="1385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5000" y="4791240"/>
            <a:ext cx="3838680" cy="44280"/>
          </a:xfrm>
          <a:custGeom>
            <a:avLst/>
            <a:gdLst/>
            <a:ahLst/>
            <a:rect l="l" t="t" r="r" b="b"/>
            <a:pathLst>
              <a:path w="10665" h="123">
                <a:moveTo>
                  <a:pt x="2134" y="13364"/>
                </a:moveTo>
                <a:cubicBezTo>
                  <a:pt x="2131" y="13359"/>
                  <a:pt x="2128" y="13353"/>
                  <a:pt x="2125" y="13348"/>
                </a:cubicBezTo>
                <a:cubicBezTo>
                  <a:pt x="2335" y="13315"/>
                  <a:pt x="2531" y="13321"/>
                  <a:pt x="2747" y="13337"/>
                </a:cubicBezTo>
                <a:cubicBezTo>
                  <a:pt x="3020" y="13358"/>
                  <a:pt x="3287" y="13369"/>
                  <a:pt x="3561" y="13371"/>
                </a:cubicBezTo>
                <a:cubicBezTo>
                  <a:pt x="3876" y="13374"/>
                  <a:pt x="4193" y="13368"/>
                  <a:pt x="4506" y="13376"/>
                </a:cubicBezTo>
                <a:cubicBezTo>
                  <a:pt x="4864" y="13385"/>
                  <a:pt x="5224" y="13398"/>
                  <a:pt x="5581" y="13382"/>
                </a:cubicBezTo>
                <a:cubicBezTo>
                  <a:pt x="5843" y="13370"/>
                  <a:pt x="6104" y="13378"/>
                  <a:pt x="6364" y="13373"/>
                </a:cubicBezTo>
                <a:cubicBezTo>
                  <a:pt x="6580" y="13369"/>
                  <a:pt x="6797" y="13365"/>
                  <a:pt x="7013" y="13364"/>
                </a:cubicBezTo>
                <a:cubicBezTo>
                  <a:pt x="7267" y="13363"/>
                  <a:pt x="7526" y="13367"/>
                  <a:pt x="7782" y="13371"/>
                </a:cubicBezTo>
                <a:cubicBezTo>
                  <a:pt x="7921" y="13373"/>
                  <a:pt x="8055" y="13367"/>
                  <a:pt x="8194" y="13357"/>
                </a:cubicBezTo>
                <a:cubicBezTo>
                  <a:pt x="8322" y="13348"/>
                  <a:pt x="8450" y="13342"/>
                  <a:pt x="8578" y="13337"/>
                </a:cubicBezTo>
                <a:cubicBezTo>
                  <a:pt x="8689" y="13333"/>
                  <a:pt x="8804" y="13328"/>
                  <a:pt x="8916" y="13332"/>
                </a:cubicBezTo>
                <a:cubicBezTo>
                  <a:pt x="9082" y="13337"/>
                  <a:pt x="9248" y="13354"/>
                  <a:pt x="9413" y="13362"/>
                </a:cubicBezTo>
                <a:cubicBezTo>
                  <a:pt x="9831" y="13383"/>
                  <a:pt x="10247" y="13345"/>
                  <a:pt x="10663" y="13348"/>
                </a:cubicBezTo>
                <a:cubicBezTo>
                  <a:pt x="10850" y="13349"/>
                  <a:pt x="11046" y="13354"/>
                  <a:pt x="11233" y="13367"/>
                </a:cubicBezTo>
                <a:cubicBezTo>
                  <a:pt x="11688" y="13398"/>
                  <a:pt x="12152" y="13371"/>
                  <a:pt x="12604" y="13407"/>
                </a:cubicBezTo>
                <a:cubicBezTo>
                  <a:pt x="12667" y="13412"/>
                  <a:pt x="12727" y="13425"/>
                  <a:pt x="12789" y="1343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000" y="4964040"/>
            <a:ext cx="854280" cy="22320"/>
          </a:xfrm>
          <a:custGeom>
            <a:avLst/>
            <a:gdLst/>
            <a:ahLst/>
            <a:rect l="l" t="t" r="r" b="b"/>
            <a:pathLst>
              <a:path w="2374" h="59">
                <a:moveTo>
                  <a:pt x="2200" y="13842"/>
                </a:moveTo>
                <a:cubicBezTo>
                  <a:pt x="2260" y="13819"/>
                  <a:pt x="2303" y="13818"/>
                  <a:pt x="2366" y="13818"/>
                </a:cubicBezTo>
                <a:cubicBezTo>
                  <a:pt x="2422" y="13818"/>
                  <a:pt x="2478" y="13818"/>
                  <a:pt x="2534" y="13815"/>
                </a:cubicBezTo>
                <a:cubicBezTo>
                  <a:pt x="2563" y="13813"/>
                  <a:pt x="2593" y="13808"/>
                  <a:pt x="2621" y="13803"/>
                </a:cubicBezTo>
                <a:cubicBezTo>
                  <a:pt x="2652" y="13797"/>
                  <a:pt x="2681" y="13791"/>
                  <a:pt x="2712" y="13790"/>
                </a:cubicBezTo>
                <a:cubicBezTo>
                  <a:pt x="2761" y="13788"/>
                  <a:pt x="2810" y="13795"/>
                  <a:pt x="2859" y="13798"/>
                </a:cubicBezTo>
                <a:cubicBezTo>
                  <a:pt x="2893" y="13800"/>
                  <a:pt x="2926" y="13801"/>
                  <a:pt x="2960" y="13801"/>
                </a:cubicBezTo>
                <a:cubicBezTo>
                  <a:pt x="2994" y="13801"/>
                  <a:pt x="3028" y="13800"/>
                  <a:pt x="3062" y="13801"/>
                </a:cubicBezTo>
                <a:cubicBezTo>
                  <a:pt x="3132" y="13803"/>
                  <a:pt x="3201" y="13803"/>
                  <a:pt x="3271" y="13804"/>
                </a:cubicBezTo>
                <a:cubicBezTo>
                  <a:pt x="3327" y="13805"/>
                  <a:pt x="3383" y="13809"/>
                  <a:pt x="3439" y="13811"/>
                </a:cubicBezTo>
                <a:cubicBezTo>
                  <a:pt x="3495" y="13813"/>
                  <a:pt x="3551" y="13814"/>
                  <a:pt x="3607" y="13817"/>
                </a:cubicBezTo>
                <a:cubicBezTo>
                  <a:pt x="3643" y="13819"/>
                  <a:pt x="3679" y="13822"/>
                  <a:pt x="3716" y="13823"/>
                </a:cubicBezTo>
                <a:cubicBezTo>
                  <a:pt x="3746" y="13824"/>
                  <a:pt x="3776" y="13825"/>
                  <a:pt x="3806" y="13826"/>
                </a:cubicBezTo>
                <a:cubicBezTo>
                  <a:pt x="3846" y="13828"/>
                  <a:pt x="3886" y="13831"/>
                  <a:pt x="3926" y="13832"/>
                </a:cubicBezTo>
                <a:cubicBezTo>
                  <a:pt x="3990" y="13833"/>
                  <a:pt x="4053" y="13829"/>
                  <a:pt x="4116" y="13828"/>
                </a:cubicBezTo>
                <a:cubicBezTo>
                  <a:pt x="4190" y="13827"/>
                  <a:pt x="4264" y="13836"/>
                  <a:pt x="4338" y="13839"/>
                </a:cubicBezTo>
                <a:cubicBezTo>
                  <a:pt x="4384" y="13841"/>
                  <a:pt x="4430" y="13843"/>
                  <a:pt x="4476" y="13845"/>
                </a:cubicBezTo>
                <a:cubicBezTo>
                  <a:pt x="4508" y="13846"/>
                  <a:pt x="4541" y="13846"/>
                  <a:pt x="4573" y="1384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79440" y="4975200"/>
            <a:ext cx="3934080" cy="84240"/>
          </a:xfrm>
          <a:custGeom>
            <a:avLst/>
            <a:gdLst/>
            <a:ahLst/>
            <a:rect l="l" t="t" r="r" b="b"/>
            <a:pathLst>
              <a:path w="10927" h="236">
                <a:moveTo>
                  <a:pt x="3553" y="13832"/>
                </a:moveTo>
                <a:cubicBezTo>
                  <a:pt x="3781" y="13829"/>
                  <a:pt x="4009" y="13831"/>
                  <a:pt x="4238" y="13828"/>
                </a:cubicBezTo>
                <a:cubicBezTo>
                  <a:pt x="4458" y="13825"/>
                  <a:pt x="4677" y="13814"/>
                  <a:pt x="4896" y="13832"/>
                </a:cubicBezTo>
                <a:cubicBezTo>
                  <a:pt x="5193" y="13856"/>
                  <a:pt x="5489" y="13869"/>
                  <a:pt x="5787" y="13876"/>
                </a:cubicBezTo>
                <a:cubicBezTo>
                  <a:pt x="6229" y="13886"/>
                  <a:pt x="6676" y="13867"/>
                  <a:pt x="7118" y="13892"/>
                </a:cubicBezTo>
                <a:cubicBezTo>
                  <a:pt x="7417" y="13909"/>
                  <a:pt x="7714" y="13909"/>
                  <a:pt x="8014" y="13898"/>
                </a:cubicBezTo>
                <a:cubicBezTo>
                  <a:pt x="8269" y="13889"/>
                  <a:pt x="8521" y="13911"/>
                  <a:pt x="8775" y="13906"/>
                </a:cubicBezTo>
                <a:cubicBezTo>
                  <a:pt x="9132" y="13899"/>
                  <a:pt x="9488" y="13872"/>
                  <a:pt x="9845" y="13889"/>
                </a:cubicBezTo>
                <a:cubicBezTo>
                  <a:pt x="10086" y="13900"/>
                  <a:pt x="10325" y="13919"/>
                  <a:pt x="10566" y="13925"/>
                </a:cubicBezTo>
                <a:cubicBezTo>
                  <a:pt x="10699" y="13928"/>
                  <a:pt x="10831" y="13925"/>
                  <a:pt x="10964" y="13926"/>
                </a:cubicBezTo>
                <a:cubicBezTo>
                  <a:pt x="11071" y="13927"/>
                  <a:pt x="11170" y="13931"/>
                  <a:pt x="11278" y="13925"/>
                </a:cubicBezTo>
                <a:cubicBezTo>
                  <a:pt x="11445" y="13916"/>
                  <a:pt x="11602" y="13901"/>
                  <a:pt x="11769" y="13907"/>
                </a:cubicBezTo>
                <a:cubicBezTo>
                  <a:pt x="12409" y="13930"/>
                  <a:pt x="13047" y="14001"/>
                  <a:pt x="13688" y="14001"/>
                </a:cubicBezTo>
                <a:cubicBezTo>
                  <a:pt x="13952" y="14001"/>
                  <a:pt x="14231" y="14019"/>
                  <a:pt x="14479" y="1405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On the Google course calendar you can see what sections will be covered each day and when tests and quizzes will be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15506" t="23142" r="19024" b="19341"/>
          <a:stretch/>
        </p:blipFill>
        <p:spPr>
          <a:xfrm>
            <a:off x="152280" y="1676520"/>
            <a:ext cx="883944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Garamond"/>
              </a:rPr>
              <a:t>You can also view and/or print the actual class notes PowerPoint by clicking on the section number “event” on the day on the calendar (i.e. P.1a).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  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16177" t="23475" r="19113" b="31017"/>
          <a:stretch/>
        </p:blipFill>
        <p:spPr>
          <a:xfrm>
            <a:off x="152280" y="1969920"/>
            <a:ext cx="8763120" cy="4708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Garamond"/>
              </a:rPr>
              <a:t>Then click on “more details.”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16177" t="23475" r="19113" b="31017"/>
          <a:stretch/>
        </p:blipFill>
        <p:spPr>
          <a:xfrm>
            <a:off x="152280" y="1523880"/>
            <a:ext cx="8763120" cy="5166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581280" y="4572000"/>
            <a:ext cx="758880" cy="19080"/>
          </a:xfrm>
          <a:custGeom>
            <a:avLst/>
            <a:gdLst/>
            <a:ahLst/>
            <a:rect l="l" t="t" r="r" b="b"/>
            <a:pathLst>
              <a:path w="2109" h="54">
                <a:moveTo>
                  <a:pt x="12626" y="11651"/>
                </a:moveTo>
                <a:cubicBezTo>
                  <a:pt x="12691" y="11644"/>
                  <a:pt x="12756" y="11641"/>
                  <a:pt x="12822" y="11643"/>
                </a:cubicBezTo>
                <a:cubicBezTo>
                  <a:pt x="12898" y="11645"/>
                  <a:pt x="12973" y="11639"/>
                  <a:pt x="13049" y="11638"/>
                </a:cubicBezTo>
                <a:cubicBezTo>
                  <a:pt x="13127" y="11637"/>
                  <a:pt x="13206" y="11634"/>
                  <a:pt x="13284" y="11634"/>
                </a:cubicBezTo>
                <a:cubicBezTo>
                  <a:pt x="13339" y="11634"/>
                  <a:pt x="13396" y="11637"/>
                  <a:pt x="13451" y="11643"/>
                </a:cubicBezTo>
                <a:cubicBezTo>
                  <a:pt x="13498" y="11648"/>
                  <a:pt x="13546" y="11656"/>
                  <a:pt x="13592" y="11665"/>
                </a:cubicBezTo>
                <a:cubicBezTo>
                  <a:pt x="13635" y="11674"/>
                  <a:pt x="13677" y="11678"/>
                  <a:pt x="13721" y="11679"/>
                </a:cubicBezTo>
                <a:cubicBezTo>
                  <a:pt x="13763" y="11680"/>
                  <a:pt x="13806" y="11676"/>
                  <a:pt x="13848" y="11676"/>
                </a:cubicBezTo>
                <a:cubicBezTo>
                  <a:pt x="13927" y="11676"/>
                  <a:pt x="14007" y="11679"/>
                  <a:pt x="14086" y="11680"/>
                </a:cubicBezTo>
                <a:cubicBezTo>
                  <a:pt x="14129" y="11681"/>
                  <a:pt x="14172" y="11676"/>
                  <a:pt x="14214" y="11670"/>
                </a:cubicBezTo>
                <a:cubicBezTo>
                  <a:pt x="14266" y="11663"/>
                  <a:pt x="14317" y="11651"/>
                  <a:pt x="14369" y="11645"/>
                </a:cubicBezTo>
                <a:cubicBezTo>
                  <a:pt x="14435" y="11637"/>
                  <a:pt x="14507" y="11624"/>
                  <a:pt x="14573" y="11627"/>
                </a:cubicBezTo>
                <a:cubicBezTo>
                  <a:pt x="14596" y="11628"/>
                  <a:pt x="14618" y="11633"/>
                  <a:pt x="14640" y="11634"/>
                </a:cubicBezTo>
                <a:cubicBezTo>
                  <a:pt x="14671" y="11635"/>
                  <a:pt x="14703" y="11633"/>
                  <a:pt x="14734" y="1163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838188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aramond"/>
              </a:rPr>
              <a:t>This will take you to the attached Google document of the class notes that you can click on to view and/or print  whether you have PowerPoint or not.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18043" r="64629" b="50072"/>
          <a:stretch/>
        </p:blipFill>
        <p:spPr>
          <a:xfrm>
            <a:off x="228600" y="2523960"/>
            <a:ext cx="8153280" cy="4192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273400" y="6372360"/>
            <a:ext cx="698400" cy="28440"/>
          </a:xfrm>
          <a:custGeom>
            <a:avLst/>
            <a:gdLst/>
            <a:ahLst/>
            <a:rect l="l" t="t" r="r" b="b"/>
            <a:pathLst>
              <a:path w="1942" h="80">
                <a:moveTo>
                  <a:pt x="2805" y="13132"/>
                </a:moveTo>
                <a:cubicBezTo>
                  <a:pt x="2819" y="13141"/>
                  <a:pt x="2823" y="13154"/>
                  <a:pt x="2853" y="13160"/>
                </a:cubicBezTo>
                <a:cubicBezTo>
                  <a:pt x="2916" y="13173"/>
                  <a:pt x="2980" y="13178"/>
                  <a:pt x="3044" y="13171"/>
                </a:cubicBezTo>
                <a:cubicBezTo>
                  <a:pt x="3065" y="13169"/>
                  <a:pt x="3086" y="13166"/>
                  <a:pt x="3107" y="13164"/>
                </a:cubicBezTo>
                <a:cubicBezTo>
                  <a:pt x="3153" y="13160"/>
                  <a:pt x="3199" y="13163"/>
                  <a:pt x="3245" y="13165"/>
                </a:cubicBezTo>
                <a:cubicBezTo>
                  <a:pt x="3270" y="13166"/>
                  <a:pt x="3292" y="13166"/>
                  <a:pt x="3317" y="13165"/>
                </a:cubicBezTo>
                <a:cubicBezTo>
                  <a:pt x="3341" y="13164"/>
                  <a:pt x="3365" y="13161"/>
                  <a:pt x="3389" y="13160"/>
                </a:cubicBezTo>
                <a:cubicBezTo>
                  <a:pt x="3457" y="13157"/>
                  <a:pt x="3526" y="13158"/>
                  <a:pt x="3593" y="13156"/>
                </a:cubicBezTo>
                <a:cubicBezTo>
                  <a:pt x="3624" y="13155"/>
                  <a:pt x="3656" y="13153"/>
                  <a:pt x="3687" y="13153"/>
                </a:cubicBezTo>
                <a:cubicBezTo>
                  <a:pt x="3727" y="13153"/>
                  <a:pt x="3766" y="13150"/>
                  <a:pt x="3806" y="13148"/>
                </a:cubicBezTo>
                <a:cubicBezTo>
                  <a:pt x="3833" y="13146"/>
                  <a:pt x="3860" y="13144"/>
                  <a:pt x="3887" y="13142"/>
                </a:cubicBezTo>
                <a:cubicBezTo>
                  <a:pt x="3928" y="13139"/>
                  <a:pt x="3970" y="13134"/>
                  <a:pt x="4011" y="13132"/>
                </a:cubicBezTo>
                <a:cubicBezTo>
                  <a:pt x="4050" y="13130"/>
                  <a:pt x="4088" y="13123"/>
                  <a:pt x="4127" y="13121"/>
                </a:cubicBezTo>
                <a:cubicBezTo>
                  <a:pt x="4159" y="13119"/>
                  <a:pt x="4194" y="13114"/>
                  <a:pt x="4226" y="13117"/>
                </a:cubicBezTo>
                <a:cubicBezTo>
                  <a:pt x="4246" y="13119"/>
                  <a:pt x="4267" y="13125"/>
                  <a:pt x="4287" y="13128"/>
                </a:cubicBezTo>
                <a:cubicBezTo>
                  <a:pt x="4321" y="13133"/>
                  <a:pt x="4354" y="13133"/>
                  <a:pt x="4388" y="13134"/>
                </a:cubicBezTo>
                <a:cubicBezTo>
                  <a:pt x="4414" y="13135"/>
                  <a:pt x="4436" y="13139"/>
                  <a:pt x="4461" y="13143"/>
                </a:cubicBezTo>
                <a:cubicBezTo>
                  <a:pt x="4496" y="13149"/>
                  <a:pt x="4531" y="13153"/>
                  <a:pt x="4564" y="13165"/>
                </a:cubicBezTo>
                <a:cubicBezTo>
                  <a:pt x="4587" y="13173"/>
                  <a:pt x="4603" y="13178"/>
                  <a:pt x="4627" y="13182"/>
                </a:cubicBezTo>
                <a:cubicBezTo>
                  <a:pt x="4645" y="13185"/>
                  <a:pt x="4701" y="13200"/>
                  <a:pt x="4717" y="13195"/>
                </a:cubicBezTo>
                <a:cubicBezTo>
                  <a:pt x="4756" y="13182"/>
                  <a:pt x="4720" y="13195"/>
                  <a:pt x="4744" y="1317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Garamond"/>
              </a:rPr>
              <a:t>The course discussion board can be accessed from here, as well.</a:t>
            </a:r>
            <a:endParaRPr b="1" lang="en-US" sz="3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16179" t="14403" r="19113" b="10910"/>
          <a:stretch/>
        </p:blipFill>
        <p:spPr>
          <a:xfrm>
            <a:off x="1066680" y="990720"/>
            <a:ext cx="7391520" cy="5867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6248520" y="1600200"/>
            <a:ext cx="457200" cy="399960"/>
          </a:xfrm>
          <a:custGeom>
            <a:avLst/>
            <a:gdLst/>
            <a:ahLst/>
            <a:rect l="l" t="t" r="r" b="b"/>
            <a:pathLst>
              <a:path w="4234" h="3706">
                <a:moveTo>
                  <a:pt x="11596" y="4641"/>
                </a:moveTo>
                <a:cubicBezTo>
                  <a:pt x="11177" y="4548"/>
                  <a:pt x="10801" y="4567"/>
                  <a:pt x="10382" y="4671"/>
                </a:cubicBezTo>
                <a:cubicBezTo>
                  <a:pt x="10043" y="4755"/>
                  <a:pt x="9719" y="4875"/>
                  <a:pt x="9474" y="5135"/>
                </a:cubicBezTo>
                <a:cubicBezTo>
                  <a:pt x="9024" y="5614"/>
                  <a:pt x="8883" y="6334"/>
                  <a:pt x="9176" y="6925"/>
                </a:cubicBezTo>
                <a:cubicBezTo>
                  <a:pt x="9405" y="7388"/>
                  <a:pt x="9818" y="7693"/>
                  <a:pt x="10326" y="7778"/>
                </a:cubicBezTo>
                <a:cubicBezTo>
                  <a:pt x="10958" y="7883"/>
                  <a:pt x="11656" y="7750"/>
                  <a:pt x="12146" y="7322"/>
                </a:cubicBezTo>
                <a:cubicBezTo>
                  <a:pt x="12666" y="6869"/>
                  <a:pt x="13015" y="6175"/>
                  <a:pt x="12870" y="5478"/>
                </a:cubicBezTo>
                <a:cubicBezTo>
                  <a:pt x="12788" y="5083"/>
                  <a:pt x="12554" y="4693"/>
                  <a:pt x="12236" y="4445"/>
                </a:cubicBezTo>
                <a:cubicBezTo>
                  <a:pt x="11853" y="4147"/>
                  <a:pt x="11340" y="4148"/>
                  <a:pt x="10890" y="4263"/>
                </a:cubicBezTo>
                <a:cubicBezTo>
                  <a:pt x="10192" y="4442"/>
                  <a:pt x="9467" y="4768"/>
                  <a:pt x="9024" y="5359"/>
                </a:cubicBezTo>
                <a:cubicBezTo>
                  <a:pt x="8725" y="5758"/>
                  <a:pt x="8576" y="6250"/>
                  <a:pt x="8742" y="6736"/>
                </a:cubicBezTo>
                <a:cubicBezTo>
                  <a:pt x="8892" y="7176"/>
                  <a:pt x="9235" y="7537"/>
                  <a:pt x="9660" y="7719"/>
                </a:cubicBezTo>
                <a:cubicBezTo>
                  <a:pt x="10165" y="7936"/>
                  <a:pt x="10728" y="7942"/>
                  <a:pt x="11252" y="7791"/>
                </a:cubicBezTo>
                <a:cubicBezTo>
                  <a:pt x="11874" y="7612"/>
                  <a:pt x="12372" y="7176"/>
                  <a:pt x="12569" y="6551"/>
                </a:cubicBezTo>
                <a:cubicBezTo>
                  <a:pt x="12728" y="6046"/>
                  <a:pt x="12627" y="5526"/>
                  <a:pt x="12441" y="504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You can ask homework questions and review with classmates for quizzes and tests in the current test’s forum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16110" t="9058" r="18640" b="46008"/>
          <a:stretch/>
        </p:blipFill>
        <p:spPr>
          <a:xfrm>
            <a:off x="152280" y="1981080"/>
            <a:ext cx="8915400" cy="4734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14400" y="5638680"/>
            <a:ext cx="797040" cy="52560"/>
          </a:xfrm>
          <a:custGeom>
            <a:avLst/>
            <a:gdLst/>
            <a:ahLst/>
            <a:rect l="l" t="t" r="r" b="b"/>
            <a:pathLst>
              <a:path w="2214" h="144">
                <a:moveTo>
                  <a:pt x="2400" y="11302"/>
                </a:moveTo>
                <a:cubicBezTo>
                  <a:pt x="2385" y="11302"/>
                  <a:pt x="2379" y="11302"/>
                  <a:pt x="2371" y="11294"/>
                </a:cubicBezTo>
                <a:cubicBezTo>
                  <a:pt x="2410" y="11308"/>
                  <a:pt x="2444" y="11318"/>
                  <a:pt x="2487" y="11323"/>
                </a:cubicBezTo>
                <a:cubicBezTo>
                  <a:pt x="2549" y="11330"/>
                  <a:pt x="2608" y="11326"/>
                  <a:pt x="2667" y="11323"/>
                </a:cubicBezTo>
                <a:cubicBezTo>
                  <a:pt x="2696" y="11322"/>
                  <a:pt x="2725" y="11321"/>
                  <a:pt x="2754" y="11321"/>
                </a:cubicBezTo>
                <a:cubicBezTo>
                  <a:pt x="2784" y="11321"/>
                  <a:pt x="2815" y="11324"/>
                  <a:pt x="2845" y="11326"/>
                </a:cubicBezTo>
                <a:cubicBezTo>
                  <a:pt x="2878" y="11328"/>
                  <a:pt x="2911" y="11329"/>
                  <a:pt x="2944" y="11329"/>
                </a:cubicBezTo>
                <a:cubicBezTo>
                  <a:pt x="3027" y="11330"/>
                  <a:pt x="3102" y="11320"/>
                  <a:pt x="3184" y="11308"/>
                </a:cubicBezTo>
                <a:cubicBezTo>
                  <a:pt x="3211" y="11304"/>
                  <a:pt x="3240" y="11301"/>
                  <a:pt x="3267" y="11296"/>
                </a:cubicBezTo>
                <a:cubicBezTo>
                  <a:pt x="3317" y="11287"/>
                  <a:pt x="3362" y="11278"/>
                  <a:pt x="3414" y="11283"/>
                </a:cubicBezTo>
                <a:cubicBezTo>
                  <a:pt x="3445" y="11286"/>
                  <a:pt x="3474" y="11292"/>
                  <a:pt x="3505" y="11294"/>
                </a:cubicBezTo>
                <a:cubicBezTo>
                  <a:pt x="3534" y="11295"/>
                  <a:pt x="3563" y="11293"/>
                  <a:pt x="3591" y="11294"/>
                </a:cubicBezTo>
                <a:cubicBezTo>
                  <a:pt x="3620" y="11295"/>
                  <a:pt x="3646" y="11297"/>
                  <a:pt x="3674" y="11301"/>
                </a:cubicBezTo>
                <a:cubicBezTo>
                  <a:pt x="3705" y="11305"/>
                  <a:pt x="3736" y="11312"/>
                  <a:pt x="3767" y="11316"/>
                </a:cubicBezTo>
                <a:cubicBezTo>
                  <a:pt x="3793" y="11320"/>
                  <a:pt x="3817" y="11323"/>
                  <a:pt x="3842" y="11324"/>
                </a:cubicBezTo>
                <a:cubicBezTo>
                  <a:pt x="3884" y="11327"/>
                  <a:pt x="3925" y="11327"/>
                  <a:pt x="3967" y="11334"/>
                </a:cubicBezTo>
                <a:cubicBezTo>
                  <a:pt x="3995" y="11338"/>
                  <a:pt x="4022" y="11346"/>
                  <a:pt x="4050" y="11351"/>
                </a:cubicBezTo>
                <a:cubicBezTo>
                  <a:pt x="4077" y="11356"/>
                  <a:pt x="4104" y="11361"/>
                  <a:pt x="4132" y="11365"/>
                </a:cubicBezTo>
                <a:cubicBezTo>
                  <a:pt x="4174" y="11371"/>
                  <a:pt x="4214" y="11372"/>
                  <a:pt x="4257" y="11373"/>
                </a:cubicBezTo>
                <a:cubicBezTo>
                  <a:pt x="4285" y="11373"/>
                  <a:pt x="4311" y="11374"/>
                  <a:pt x="4340" y="11377"/>
                </a:cubicBezTo>
                <a:cubicBezTo>
                  <a:pt x="4379" y="11382"/>
                  <a:pt x="4417" y="11376"/>
                  <a:pt x="4454" y="11379"/>
                </a:cubicBezTo>
                <a:cubicBezTo>
                  <a:pt x="4476" y="11380"/>
                  <a:pt x="4495" y="11388"/>
                  <a:pt x="4517" y="11391"/>
                </a:cubicBezTo>
                <a:cubicBezTo>
                  <a:pt x="4537" y="11394"/>
                  <a:pt x="4558" y="11392"/>
                  <a:pt x="4576" y="11393"/>
                </a:cubicBezTo>
                <a:cubicBezTo>
                  <a:pt x="4583" y="11407"/>
                  <a:pt x="4585" y="11412"/>
                  <a:pt x="4584" y="1142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You can post real-world applications and Christian worldviews for extra credit in the current test’s forum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16110" t="9058" r="18640" b="46008"/>
          <a:stretch/>
        </p:blipFill>
        <p:spPr>
          <a:xfrm>
            <a:off x="152280" y="1981080"/>
            <a:ext cx="8915400" cy="4734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031760" y="5967360"/>
            <a:ext cx="797040" cy="52560"/>
          </a:xfrm>
          <a:custGeom>
            <a:avLst/>
            <a:gdLst/>
            <a:ahLst/>
            <a:rect l="l" t="t" r="r" b="b"/>
            <a:pathLst>
              <a:path w="2214" h="144">
                <a:moveTo>
                  <a:pt x="2400" y="11302"/>
                </a:moveTo>
                <a:cubicBezTo>
                  <a:pt x="2385" y="11302"/>
                  <a:pt x="2379" y="11302"/>
                  <a:pt x="2371" y="11294"/>
                </a:cubicBezTo>
                <a:cubicBezTo>
                  <a:pt x="2410" y="11308"/>
                  <a:pt x="2444" y="11318"/>
                  <a:pt x="2487" y="11323"/>
                </a:cubicBezTo>
                <a:cubicBezTo>
                  <a:pt x="2549" y="11330"/>
                  <a:pt x="2608" y="11326"/>
                  <a:pt x="2667" y="11323"/>
                </a:cubicBezTo>
                <a:cubicBezTo>
                  <a:pt x="2696" y="11322"/>
                  <a:pt x="2725" y="11321"/>
                  <a:pt x="2754" y="11321"/>
                </a:cubicBezTo>
                <a:cubicBezTo>
                  <a:pt x="2784" y="11321"/>
                  <a:pt x="2815" y="11324"/>
                  <a:pt x="2845" y="11326"/>
                </a:cubicBezTo>
                <a:cubicBezTo>
                  <a:pt x="2878" y="11328"/>
                  <a:pt x="2911" y="11329"/>
                  <a:pt x="2944" y="11329"/>
                </a:cubicBezTo>
                <a:cubicBezTo>
                  <a:pt x="3027" y="11330"/>
                  <a:pt x="3102" y="11320"/>
                  <a:pt x="3184" y="11308"/>
                </a:cubicBezTo>
                <a:cubicBezTo>
                  <a:pt x="3211" y="11304"/>
                  <a:pt x="3240" y="11301"/>
                  <a:pt x="3267" y="11296"/>
                </a:cubicBezTo>
                <a:cubicBezTo>
                  <a:pt x="3317" y="11287"/>
                  <a:pt x="3362" y="11278"/>
                  <a:pt x="3414" y="11283"/>
                </a:cubicBezTo>
                <a:cubicBezTo>
                  <a:pt x="3445" y="11286"/>
                  <a:pt x="3474" y="11292"/>
                  <a:pt x="3505" y="11294"/>
                </a:cubicBezTo>
                <a:cubicBezTo>
                  <a:pt x="3534" y="11295"/>
                  <a:pt x="3563" y="11293"/>
                  <a:pt x="3591" y="11294"/>
                </a:cubicBezTo>
                <a:cubicBezTo>
                  <a:pt x="3620" y="11295"/>
                  <a:pt x="3646" y="11297"/>
                  <a:pt x="3674" y="11301"/>
                </a:cubicBezTo>
                <a:cubicBezTo>
                  <a:pt x="3705" y="11305"/>
                  <a:pt x="3736" y="11312"/>
                  <a:pt x="3767" y="11316"/>
                </a:cubicBezTo>
                <a:cubicBezTo>
                  <a:pt x="3793" y="11320"/>
                  <a:pt x="3817" y="11323"/>
                  <a:pt x="3842" y="11324"/>
                </a:cubicBezTo>
                <a:cubicBezTo>
                  <a:pt x="3884" y="11327"/>
                  <a:pt x="3925" y="11327"/>
                  <a:pt x="3967" y="11334"/>
                </a:cubicBezTo>
                <a:cubicBezTo>
                  <a:pt x="3995" y="11338"/>
                  <a:pt x="4022" y="11346"/>
                  <a:pt x="4050" y="11351"/>
                </a:cubicBezTo>
                <a:cubicBezTo>
                  <a:pt x="4077" y="11356"/>
                  <a:pt x="4104" y="11361"/>
                  <a:pt x="4132" y="11365"/>
                </a:cubicBezTo>
                <a:cubicBezTo>
                  <a:pt x="4174" y="11371"/>
                  <a:pt x="4214" y="11372"/>
                  <a:pt x="4257" y="11373"/>
                </a:cubicBezTo>
                <a:cubicBezTo>
                  <a:pt x="4285" y="11373"/>
                  <a:pt x="4311" y="11374"/>
                  <a:pt x="4340" y="11377"/>
                </a:cubicBezTo>
                <a:cubicBezTo>
                  <a:pt x="4379" y="11382"/>
                  <a:pt x="4417" y="11376"/>
                  <a:pt x="4454" y="11379"/>
                </a:cubicBezTo>
                <a:cubicBezTo>
                  <a:pt x="4476" y="11380"/>
                  <a:pt x="4495" y="11388"/>
                  <a:pt x="4517" y="11391"/>
                </a:cubicBezTo>
                <a:cubicBezTo>
                  <a:pt x="4537" y="11394"/>
                  <a:pt x="4558" y="11392"/>
                  <a:pt x="4576" y="11393"/>
                </a:cubicBezTo>
                <a:cubicBezTo>
                  <a:pt x="4583" y="11407"/>
                  <a:pt x="4585" y="11412"/>
                  <a:pt x="4584" y="1142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You can access this “getting started” presentation for review anytime by clicking on the link in the navigation menu at the right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848720" y="1371600"/>
            <a:ext cx="1869840" cy="9144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-1752480" y="2362320"/>
            <a:ext cx="761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rcRect l="15835" t="7273" r="19339" b="9093"/>
          <a:stretch/>
        </p:blipFill>
        <p:spPr>
          <a:xfrm>
            <a:off x="838080" y="1523880"/>
            <a:ext cx="7772400" cy="5334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543800" y="3809880"/>
            <a:ext cx="990720" cy="866880"/>
          </a:xfrm>
          <a:custGeom>
            <a:avLst/>
            <a:gdLst/>
            <a:ahLst/>
            <a:rect l="l" t="t" r="r" b="b"/>
            <a:pathLst>
              <a:path w="4234" h="3706">
                <a:moveTo>
                  <a:pt x="11596" y="4641"/>
                </a:moveTo>
                <a:cubicBezTo>
                  <a:pt x="11177" y="4548"/>
                  <a:pt x="10801" y="4567"/>
                  <a:pt x="10382" y="4671"/>
                </a:cubicBezTo>
                <a:cubicBezTo>
                  <a:pt x="10043" y="4755"/>
                  <a:pt x="9719" y="4875"/>
                  <a:pt x="9474" y="5135"/>
                </a:cubicBezTo>
                <a:cubicBezTo>
                  <a:pt x="9024" y="5614"/>
                  <a:pt x="8883" y="6334"/>
                  <a:pt x="9176" y="6925"/>
                </a:cubicBezTo>
                <a:cubicBezTo>
                  <a:pt x="9405" y="7388"/>
                  <a:pt x="9818" y="7693"/>
                  <a:pt x="10326" y="7778"/>
                </a:cubicBezTo>
                <a:cubicBezTo>
                  <a:pt x="10958" y="7883"/>
                  <a:pt x="11656" y="7750"/>
                  <a:pt x="12146" y="7322"/>
                </a:cubicBezTo>
                <a:cubicBezTo>
                  <a:pt x="12666" y="6869"/>
                  <a:pt x="13015" y="6175"/>
                  <a:pt x="12870" y="5478"/>
                </a:cubicBezTo>
                <a:cubicBezTo>
                  <a:pt x="12788" y="5083"/>
                  <a:pt x="12554" y="4693"/>
                  <a:pt x="12236" y="4445"/>
                </a:cubicBezTo>
                <a:cubicBezTo>
                  <a:pt x="11853" y="4147"/>
                  <a:pt x="11340" y="4148"/>
                  <a:pt x="10890" y="4263"/>
                </a:cubicBezTo>
                <a:cubicBezTo>
                  <a:pt x="10192" y="4442"/>
                  <a:pt x="9467" y="4768"/>
                  <a:pt x="9024" y="5359"/>
                </a:cubicBezTo>
                <a:cubicBezTo>
                  <a:pt x="8725" y="5758"/>
                  <a:pt x="8576" y="6250"/>
                  <a:pt x="8742" y="6736"/>
                </a:cubicBezTo>
                <a:cubicBezTo>
                  <a:pt x="8892" y="7176"/>
                  <a:pt x="9235" y="7537"/>
                  <a:pt x="9660" y="7719"/>
                </a:cubicBezTo>
                <a:cubicBezTo>
                  <a:pt x="10165" y="7936"/>
                  <a:pt x="10728" y="7942"/>
                  <a:pt x="11252" y="7791"/>
                </a:cubicBezTo>
                <a:cubicBezTo>
                  <a:pt x="11874" y="7612"/>
                  <a:pt x="12372" y="7176"/>
                  <a:pt x="12569" y="6551"/>
                </a:cubicBezTo>
                <a:cubicBezTo>
                  <a:pt x="12728" y="6046"/>
                  <a:pt x="12627" y="5526"/>
                  <a:pt x="12441" y="50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0120" y="4267080"/>
            <a:ext cx="796680" cy="52560"/>
          </a:xfrm>
          <a:custGeom>
            <a:avLst/>
            <a:gdLst/>
            <a:ahLst/>
            <a:rect l="l" t="t" r="r" b="b"/>
            <a:pathLst>
              <a:path w="2214" h="144">
                <a:moveTo>
                  <a:pt x="2400" y="11302"/>
                </a:moveTo>
                <a:cubicBezTo>
                  <a:pt x="2385" y="11302"/>
                  <a:pt x="2379" y="11302"/>
                  <a:pt x="2371" y="11294"/>
                </a:cubicBezTo>
                <a:cubicBezTo>
                  <a:pt x="2410" y="11308"/>
                  <a:pt x="2444" y="11318"/>
                  <a:pt x="2487" y="11323"/>
                </a:cubicBezTo>
                <a:cubicBezTo>
                  <a:pt x="2549" y="11330"/>
                  <a:pt x="2608" y="11326"/>
                  <a:pt x="2667" y="11323"/>
                </a:cubicBezTo>
                <a:cubicBezTo>
                  <a:pt x="2696" y="11322"/>
                  <a:pt x="2725" y="11321"/>
                  <a:pt x="2754" y="11321"/>
                </a:cubicBezTo>
                <a:cubicBezTo>
                  <a:pt x="2784" y="11321"/>
                  <a:pt x="2815" y="11324"/>
                  <a:pt x="2845" y="11326"/>
                </a:cubicBezTo>
                <a:cubicBezTo>
                  <a:pt x="2878" y="11328"/>
                  <a:pt x="2911" y="11329"/>
                  <a:pt x="2944" y="11329"/>
                </a:cubicBezTo>
                <a:cubicBezTo>
                  <a:pt x="3027" y="11330"/>
                  <a:pt x="3102" y="11320"/>
                  <a:pt x="3184" y="11308"/>
                </a:cubicBezTo>
                <a:cubicBezTo>
                  <a:pt x="3211" y="11304"/>
                  <a:pt x="3240" y="11301"/>
                  <a:pt x="3267" y="11296"/>
                </a:cubicBezTo>
                <a:cubicBezTo>
                  <a:pt x="3317" y="11287"/>
                  <a:pt x="3362" y="11278"/>
                  <a:pt x="3414" y="11283"/>
                </a:cubicBezTo>
                <a:cubicBezTo>
                  <a:pt x="3445" y="11286"/>
                  <a:pt x="3474" y="11292"/>
                  <a:pt x="3505" y="11294"/>
                </a:cubicBezTo>
                <a:cubicBezTo>
                  <a:pt x="3534" y="11295"/>
                  <a:pt x="3563" y="11293"/>
                  <a:pt x="3591" y="11294"/>
                </a:cubicBezTo>
                <a:cubicBezTo>
                  <a:pt x="3620" y="11295"/>
                  <a:pt x="3646" y="11297"/>
                  <a:pt x="3674" y="11301"/>
                </a:cubicBezTo>
                <a:cubicBezTo>
                  <a:pt x="3705" y="11305"/>
                  <a:pt x="3736" y="11312"/>
                  <a:pt x="3767" y="11316"/>
                </a:cubicBezTo>
                <a:cubicBezTo>
                  <a:pt x="3793" y="11320"/>
                  <a:pt x="3817" y="11323"/>
                  <a:pt x="3842" y="11324"/>
                </a:cubicBezTo>
                <a:cubicBezTo>
                  <a:pt x="3884" y="11327"/>
                  <a:pt x="3925" y="11327"/>
                  <a:pt x="3967" y="11334"/>
                </a:cubicBezTo>
                <a:cubicBezTo>
                  <a:pt x="3995" y="11338"/>
                  <a:pt x="4022" y="11346"/>
                  <a:pt x="4050" y="11351"/>
                </a:cubicBezTo>
                <a:cubicBezTo>
                  <a:pt x="4077" y="11356"/>
                  <a:pt x="4104" y="11361"/>
                  <a:pt x="4132" y="11365"/>
                </a:cubicBezTo>
                <a:cubicBezTo>
                  <a:pt x="4174" y="11371"/>
                  <a:pt x="4214" y="11372"/>
                  <a:pt x="4257" y="11373"/>
                </a:cubicBezTo>
                <a:cubicBezTo>
                  <a:pt x="4285" y="11373"/>
                  <a:pt x="4311" y="11374"/>
                  <a:pt x="4340" y="11377"/>
                </a:cubicBezTo>
                <a:cubicBezTo>
                  <a:pt x="4379" y="11382"/>
                  <a:pt x="4417" y="11376"/>
                  <a:pt x="4454" y="11379"/>
                </a:cubicBezTo>
                <a:cubicBezTo>
                  <a:pt x="4476" y="11380"/>
                  <a:pt x="4495" y="11388"/>
                  <a:pt x="4517" y="11391"/>
                </a:cubicBezTo>
                <a:cubicBezTo>
                  <a:pt x="4537" y="11394"/>
                  <a:pt x="4558" y="11392"/>
                  <a:pt x="4576" y="11393"/>
                </a:cubicBezTo>
                <a:cubicBezTo>
                  <a:pt x="4583" y="11407"/>
                  <a:pt x="4585" y="11412"/>
                  <a:pt x="4584" y="1142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Garamond"/>
              </a:rPr>
              <a:t>This will take you to the Home page</a:t>
            </a:r>
            <a:r>
              <a:rPr b="1" lang="en-US" sz="4000" spc="-1" strike="noStrike">
                <a:solidFill>
                  <a:srgbClr val="f8f8f8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8f8f8"/>
                </a:solidFill>
                <a:latin typeface="Garamond"/>
              </a:rPr>
              <a:t>as seen below.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5835" t="7273" r="19339" b="9093"/>
          <a:stretch/>
        </p:blipFill>
        <p:spPr>
          <a:xfrm>
            <a:off x="914400" y="1220760"/>
            <a:ext cx="7543800" cy="5637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3200"/>
            </a:b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5835" t="7273" r="19339" b="9093"/>
          <a:stretch/>
        </p:blipFill>
        <p:spPr>
          <a:xfrm>
            <a:off x="914400" y="1220760"/>
            <a:ext cx="7543800" cy="5637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-2590920" y="1600200"/>
            <a:ext cx="3927600" cy="4191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505320" y="5334120"/>
            <a:ext cx="1251000" cy="61920"/>
          </a:xfrm>
          <a:custGeom>
            <a:avLst/>
            <a:gdLst/>
            <a:ahLst/>
            <a:rect l="l" t="t" r="r" b="b"/>
            <a:pathLst>
              <a:path w="3478" h="174">
                <a:moveTo>
                  <a:pt x="10912" y="14781"/>
                </a:moveTo>
                <a:cubicBezTo>
                  <a:pt x="10943" y="14779"/>
                  <a:pt x="10977" y="14777"/>
                  <a:pt x="11010" y="14774"/>
                </a:cubicBezTo>
                <a:cubicBezTo>
                  <a:pt x="11143" y="14764"/>
                  <a:pt x="11282" y="14775"/>
                  <a:pt x="11415" y="14778"/>
                </a:cubicBezTo>
                <a:cubicBezTo>
                  <a:pt x="11509" y="14780"/>
                  <a:pt x="11602" y="14790"/>
                  <a:pt x="11696" y="14789"/>
                </a:cubicBezTo>
                <a:cubicBezTo>
                  <a:pt x="11732" y="14789"/>
                  <a:pt x="11767" y="14786"/>
                  <a:pt x="11802" y="14784"/>
                </a:cubicBezTo>
                <a:cubicBezTo>
                  <a:pt x="12027" y="14774"/>
                  <a:pt x="12242" y="14780"/>
                  <a:pt x="12466" y="14803"/>
                </a:cubicBezTo>
                <a:cubicBezTo>
                  <a:pt x="12506" y="14807"/>
                  <a:pt x="12546" y="14811"/>
                  <a:pt x="12586" y="14815"/>
                </a:cubicBezTo>
                <a:cubicBezTo>
                  <a:pt x="12730" y="14829"/>
                  <a:pt x="12875" y="14827"/>
                  <a:pt x="13020" y="14831"/>
                </a:cubicBezTo>
                <a:cubicBezTo>
                  <a:pt x="13049" y="14832"/>
                  <a:pt x="13076" y="14837"/>
                  <a:pt x="13104" y="14839"/>
                </a:cubicBezTo>
                <a:cubicBezTo>
                  <a:pt x="13164" y="14843"/>
                  <a:pt x="13225" y="14851"/>
                  <a:pt x="13285" y="14852"/>
                </a:cubicBezTo>
                <a:cubicBezTo>
                  <a:pt x="13320" y="14853"/>
                  <a:pt x="13355" y="14852"/>
                  <a:pt x="13390" y="14852"/>
                </a:cubicBezTo>
                <a:cubicBezTo>
                  <a:pt x="13446" y="14853"/>
                  <a:pt x="13498" y="14859"/>
                  <a:pt x="13554" y="14862"/>
                </a:cubicBezTo>
                <a:cubicBezTo>
                  <a:pt x="13610" y="14865"/>
                  <a:pt x="13666" y="14869"/>
                  <a:pt x="13722" y="14868"/>
                </a:cubicBezTo>
                <a:cubicBezTo>
                  <a:pt x="13747" y="14868"/>
                  <a:pt x="13771" y="14867"/>
                  <a:pt x="13795" y="14865"/>
                </a:cubicBezTo>
                <a:cubicBezTo>
                  <a:pt x="13837" y="14862"/>
                  <a:pt x="13878" y="14858"/>
                  <a:pt x="13921" y="14859"/>
                </a:cubicBezTo>
                <a:cubicBezTo>
                  <a:pt x="13967" y="14860"/>
                  <a:pt x="14011" y="14864"/>
                  <a:pt x="14057" y="14864"/>
                </a:cubicBezTo>
                <a:cubicBezTo>
                  <a:pt x="14078" y="14864"/>
                  <a:pt x="14098" y="14862"/>
                  <a:pt x="14119" y="14862"/>
                </a:cubicBezTo>
                <a:cubicBezTo>
                  <a:pt x="14144" y="14862"/>
                  <a:pt x="14168" y="14864"/>
                  <a:pt x="14193" y="14865"/>
                </a:cubicBezTo>
                <a:cubicBezTo>
                  <a:pt x="14242" y="14867"/>
                  <a:pt x="14287" y="14859"/>
                  <a:pt x="14336" y="14857"/>
                </a:cubicBezTo>
                <a:cubicBezTo>
                  <a:pt x="14359" y="14856"/>
                  <a:pt x="14363" y="14858"/>
                  <a:pt x="14386" y="14857"/>
                </a:cubicBezTo>
                <a:cubicBezTo>
                  <a:pt x="14361" y="14858"/>
                  <a:pt x="14355" y="14858"/>
                  <a:pt x="14330" y="14858"/>
                </a:cubicBezTo>
                <a:cubicBezTo>
                  <a:pt x="14303" y="14858"/>
                  <a:pt x="14279" y="14861"/>
                  <a:pt x="14252" y="14862"/>
                </a:cubicBezTo>
                <a:cubicBezTo>
                  <a:pt x="14146" y="14865"/>
                  <a:pt x="14041" y="14868"/>
                  <a:pt x="13935" y="14868"/>
                </a:cubicBezTo>
                <a:cubicBezTo>
                  <a:pt x="13563" y="14867"/>
                  <a:pt x="13182" y="14855"/>
                  <a:pt x="12813" y="14911"/>
                </a:cubicBezTo>
                <a:cubicBezTo>
                  <a:pt x="12742" y="14922"/>
                  <a:pt x="12672" y="14927"/>
                  <a:pt x="12602" y="14932"/>
                </a:cubicBezTo>
                <a:cubicBezTo>
                  <a:pt x="12574" y="14934"/>
                  <a:pt x="12546" y="14940"/>
                  <a:pt x="12518" y="1494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3200"/>
            </a:b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br>
              <a:rPr sz="3200"/>
            </a:b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2.) a link to Jupiter Ed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5835" t="10640" r="19339" b="9093"/>
          <a:stretch/>
        </p:blipFill>
        <p:spPr>
          <a:xfrm>
            <a:off x="914400" y="1447920"/>
            <a:ext cx="7543800" cy="5410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-2590920" y="1600200"/>
            <a:ext cx="3927600" cy="4191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505320" y="5729400"/>
            <a:ext cx="1251000" cy="61920"/>
          </a:xfrm>
          <a:custGeom>
            <a:avLst/>
            <a:gdLst/>
            <a:ahLst/>
            <a:rect l="l" t="t" r="r" b="b"/>
            <a:pathLst>
              <a:path w="3478" h="174">
                <a:moveTo>
                  <a:pt x="10912" y="14781"/>
                </a:moveTo>
                <a:cubicBezTo>
                  <a:pt x="10943" y="14779"/>
                  <a:pt x="10977" y="14777"/>
                  <a:pt x="11010" y="14774"/>
                </a:cubicBezTo>
                <a:cubicBezTo>
                  <a:pt x="11143" y="14764"/>
                  <a:pt x="11282" y="14775"/>
                  <a:pt x="11415" y="14778"/>
                </a:cubicBezTo>
                <a:cubicBezTo>
                  <a:pt x="11509" y="14780"/>
                  <a:pt x="11602" y="14790"/>
                  <a:pt x="11696" y="14789"/>
                </a:cubicBezTo>
                <a:cubicBezTo>
                  <a:pt x="11732" y="14789"/>
                  <a:pt x="11767" y="14786"/>
                  <a:pt x="11802" y="14784"/>
                </a:cubicBezTo>
                <a:cubicBezTo>
                  <a:pt x="12027" y="14774"/>
                  <a:pt x="12242" y="14780"/>
                  <a:pt x="12466" y="14803"/>
                </a:cubicBezTo>
                <a:cubicBezTo>
                  <a:pt x="12506" y="14807"/>
                  <a:pt x="12546" y="14811"/>
                  <a:pt x="12586" y="14815"/>
                </a:cubicBezTo>
                <a:cubicBezTo>
                  <a:pt x="12730" y="14829"/>
                  <a:pt x="12875" y="14827"/>
                  <a:pt x="13020" y="14831"/>
                </a:cubicBezTo>
                <a:cubicBezTo>
                  <a:pt x="13049" y="14832"/>
                  <a:pt x="13076" y="14837"/>
                  <a:pt x="13104" y="14839"/>
                </a:cubicBezTo>
                <a:cubicBezTo>
                  <a:pt x="13164" y="14843"/>
                  <a:pt x="13225" y="14851"/>
                  <a:pt x="13285" y="14852"/>
                </a:cubicBezTo>
                <a:cubicBezTo>
                  <a:pt x="13320" y="14853"/>
                  <a:pt x="13355" y="14852"/>
                  <a:pt x="13390" y="14852"/>
                </a:cubicBezTo>
                <a:cubicBezTo>
                  <a:pt x="13446" y="14853"/>
                  <a:pt x="13498" y="14859"/>
                  <a:pt x="13554" y="14862"/>
                </a:cubicBezTo>
                <a:cubicBezTo>
                  <a:pt x="13610" y="14865"/>
                  <a:pt x="13666" y="14869"/>
                  <a:pt x="13722" y="14868"/>
                </a:cubicBezTo>
                <a:cubicBezTo>
                  <a:pt x="13747" y="14868"/>
                  <a:pt x="13771" y="14867"/>
                  <a:pt x="13795" y="14865"/>
                </a:cubicBezTo>
                <a:cubicBezTo>
                  <a:pt x="13837" y="14862"/>
                  <a:pt x="13878" y="14858"/>
                  <a:pt x="13921" y="14859"/>
                </a:cubicBezTo>
                <a:cubicBezTo>
                  <a:pt x="13967" y="14860"/>
                  <a:pt x="14011" y="14864"/>
                  <a:pt x="14057" y="14864"/>
                </a:cubicBezTo>
                <a:cubicBezTo>
                  <a:pt x="14078" y="14864"/>
                  <a:pt x="14098" y="14862"/>
                  <a:pt x="14119" y="14862"/>
                </a:cubicBezTo>
                <a:cubicBezTo>
                  <a:pt x="14144" y="14862"/>
                  <a:pt x="14168" y="14864"/>
                  <a:pt x="14193" y="14865"/>
                </a:cubicBezTo>
                <a:cubicBezTo>
                  <a:pt x="14242" y="14867"/>
                  <a:pt x="14287" y="14859"/>
                  <a:pt x="14336" y="14857"/>
                </a:cubicBezTo>
                <a:cubicBezTo>
                  <a:pt x="14359" y="14856"/>
                  <a:pt x="14363" y="14858"/>
                  <a:pt x="14386" y="14857"/>
                </a:cubicBezTo>
                <a:cubicBezTo>
                  <a:pt x="14361" y="14858"/>
                  <a:pt x="14355" y="14858"/>
                  <a:pt x="14330" y="14858"/>
                </a:cubicBezTo>
                <a:cubicBezTo>
                  <a:pt x="14303" y="14858"/>
                  <a:pt x="14279" y="14861"/>
                  <a:pt x="14252" y="14862"/>
                </a:cubicBezTo>
                <a:cubicBezTo>
                  <a:pt x="14146" y="14865"/>
                  <a:pt x="14041" y="14868"/>
                  <a:pt x="13935" y="14868"/>
                </a:cubicBezTo>
                <a:cubicBezTo>
                  <a:pt x="13563" y="14867"/>
                  <a:pt x="13182" y="14855"/>
                  <a:pt x="12813" y="14911"/>
                </a:cubicBezTo>
                <a:cubicBezTo>
                  <a:pt x="12742" y="14922"/>
                  <a:pt x="12672" y="14927"/>
                  <a:pt x="12602" y="14932"/>
                </a:cubicBezTo>
                <a:cubicBezTo>
                  <a:pt x="12574" y="14934"/>
                  <a:pt x="12546" y="14940"/>
                  <a:pt x="12518" y="1494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2.) a link to Jupitergrades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3.) links to the other main pages of site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5835" t="15162" r="19339" b="9093"/>
          <a:stretch/>
        </p:blipFill>
        <p:spPr>
          <a:xfrm>
            <a:off x="914400" y="1752480"/>
            <a:ext cx="754380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2590920" y="1600200"/>
            <a:ext cx="392760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62520" y="6019920"/>
            <a:ext cx="635040" cy="90360"/>
          </a:xfrm>
          <a:custGeom>
            <a:avLst/>
            <a:gdLst/>
            <a:ahLst/>
            <a:rect l="l" t="t" r="r" b="b"/>
            <a:pathLst>
              <a:path w="1764" h="255">
                <a:moveTo>
                  <a:pt x="11840" y="17346"/>
                </a:moveTo>
                <a:cubicBezTo>
                  <a:pt x="11862" y="17366"/>
                  <a:pt x="11869" y="17377"/>
                  <a:pt x="11903" y="17390"/>
                </a:cubicBezTo>
                <a:cubicBezTo>
                  <a:pt x="11958" y="17411"/>
                  <a:pt x="12025" y="17402"/>
                  <a:pt x="12083" y="17402"/>
                </a:cubicBezTo>
                <a:cubicBezTo>
                  <a:pt x="12124" y="17402"/>
                  <a:pt x="12164" y="17406"/>
                  <a:pt x="12204" y="17408"/>
                </a:cubicBezTo>
                <a:cubicBezTo>
                  <a:pt x="12249" y="17410"/>
                  <a:pt x="12294" y="17414"/>
                  <a:pt x="12339" y="17415"/>
                </a:cubicBezTo>
                <a:cubicBezTo>
                  <a:pt x="12385" y="17416"/>
                  <a:pt x="12430" y="17418"/>
                  <a:pt x="12476" y="17420"/>
                </a:cubicBezTo>
                <a:cubicBezTo>
                  <a:pt x="12532" y="17422"/>
                  <a:pt x="12580" y="17429"/>
                  <a:pt x="12633" y="17442"/>
                </a:cubicBezTo>
                <a:cubicBezTo>
                  <a:pt x="12740" y="17468"/>
                  <a:pt x="12845" y="17485"/>
                  <a:pt x="12954" y="17495"/>
                </a:cubicBezTo>
                <a:cubicBezTo>
                  <a:pt x="12996" y="17499"/>
                  <a:pt x="13039" y="17501"/>
                  <a:pt x="13081" y="17507"/>
                </a:cubicBezTo>
                <a:cubicBezTo>
                  <a:pt x="13147" y="17516"/>
                  <a:pt x="13210" y="17534"/>
                  <a:pt x="13274" y="17549"/>
                </a:cubicBezTo>
                <a:cubicBezTo>
                  <a:pt x="13312" y="17558"/>
                  <a:pt x="13352" y="17566"/>
                  <a:pt x="13391" y="17569"/>
                </a:cubicBezTo>
                <a:cubicBezTo>
                  <a:pt x="13440" y="17573"/>
                  <a:pt x="13491" y="17571"/>
                  <a:pt x="13539" y="17579"/>
                </a:cubicBezTo>
                <a:cubicBezTo>
                  <a:pt x="13562" y="17583"/>
                  <a:pt x="13581" y="17594"/>
                  <a:pt x="13603" y="1760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9600" y="6286680"/>
            <a:ext cx="1920960" cy="55440"/>
          </a:xfrm>
          <a:custGeom>
            <a:avLst/>
            <a:gdLst/>
            <a:ahLst/>
            <a:rect l="l" t="t" r="r" b="b"/>
            <a:pathLst>
              <a:path w="5335" h="153">
                <a:moveTo>
                  <a:pt x="9945" y="18094"/>
                </a:moveTo>
                <a:cubicBezTo>
                  <a:pt x="9969" y="18094"/>
                  <a:pt x="9988" y="18093"/>
                  <a:pt x="10013" y="18094"/>
                </a:cubicBezTo>
                <a:cubicBezTo>
                  <a:pt x="10039" y="18095"/>
                  <a:pt x="10066" y="18097"/>
                  <a:pt x="10093" y="18098"/>
                </a:cubicBezTo>
                <a:cubicBezTo>
                  <a:pt x="10270" y="18105"/>
                  <a:pt x="10449" y="18089"/>
                  <a:pt x="10625" y="18102"/>
                </a:cubicBezTo>
                <a:cubicBezTo>
                  <a:pt x="10711" y="18108"/>
                  <a:pt x="10795" y="18125"/>
                  <a:pt x="10881" y="18135"/>
                </a:cubicBezTo>
                <a:cubicBezTo>
                  <a:pt x="10984" y="18147"/>
                  <a:pt x="11087" y="18159"/>
                  <a:pt x="11191" y="18170"/>
                </a:cubicBezTo>
                <a:cubicBezTo>
                  <a:pt x="11426" y="18195"/>
                  <a:pt x="11663" y="18202"/>
                  <a:pt x="11898" y="18222"/>
                </a:cubicBezTo>
                <a:cubicBezTo>
                  <a:pt x="12343" y="18259"/>
                  <a:pt x="12787" y="18224"/>
                  <a:pt x="13233" y="18218"/>
                </a:cubicBezTo>
                <a:cubicBezTo>
                  <a:pt x="13488" y="18215"/>
                  <a:pt x="13738" y="18188"/>
                  <a:pt x="13991" y="18173"/>
                </a:cubicBezTo>
                <a:cubicBezTo>
                  <a:pt x="14240" y="18158"/>
                  <a:pt x="14493" y="18153"/>
                  <a:pt x="14742" y="18147"/>
                </a:cubicBezTo>
                <a:cubicBezTo>
                  <a:pt x="14802" y="18146"/>
                  <a:pt x="14862" y="18151"/>
                  <a:pt x="14921" y="18153"/>
                </a:cubicBezTo>
                <a:cubicBezTo>
                  <a:pt x="15003" y="18156"/>
                  <a:pt x="15090" y="18144"/>
                  <a:pt x="15170" y="18156"/>
                </a:cubicBezTo>
                <a:cubicBezTo>
                  <a:pt x="15206" y="18161"/>
                  <a:pt x="15243" y="18178"/>
                  <a:pt x="15279" y="1818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49560" y="6488280"/>
            <a:ext cx="584280" cy="27000"/>
          </a:xfrm>
          <a:custGeom>
            <a:avLst/>
            <a:gdLst/>
            <a:ahLst/>
            <a:rect l="l" t="t" r="r" b="b"/>
            <a:pathLst>
              <a:path w="1623" h="73">
                <a:moveTo>
                  <a:pt x="11806" y="18660"/>
                </a:moveTo>
                <a:cubicBezTo>
                  <a:pt x="11829" y="18674"/>
                  <a:pt x="11827" y="18684"/>
                  <a:pt x="11870" y="18685"/>
                </a:cubicBezTo>
                <a:cubicBezTo>
                  <a:pt x="11902" y="18685"/>
                  <a:pt x="11936" y="18681"/>
                  <a:pt x="11968" y="18679"/>
                </a:cubicBezTo>
                <a:cubicBezTo>
                  <a:pt x="12015" y="18676"/>
                  <a:pt x="12063" y="18673"/>
                  <a:pt x="12110" y="18669"/>
                </a:cubicBezTo>
                <a:cubicBezTo>
                  <a:pt x="12185" y="18663"/>
                  <a:pt x="12260" y="18658"/>
                  <a:pt x="12336" y="18654"/>
                </a:cubicBezTo>
                <a:cubicBezTo>
                  <a:pt x="12463" y="18647"/>
                  <a:pt x="12592" y="18647"/>
                  <a:pt x="12719" y="18654"/>
                </a:cubicBezTo>
                <a:cubicBezTo>
                  <a:pt x="12805" y="18659"/>
                  <a:pt x="12891" y="18662"/>
                  <a:pt x="12977" y="18669"/>
                </a:cubicBezTo>
                <a:cubicBezTo>
                  <a:pt x="13029" y="18673"/>
                  <a:pt x="13081" y="18678"/>
                  <a:pt x="13133" y="18682"/>
                </a:cubicBezTo>
                <a:cubicBezTo>
                  <a:pt x="13177" y="18685"/>
                  <a:pt x="13222" y="18687"/>
                  <a:pt x="13266" y="18691"/>
                </a:cubicBezTo>
                <a:cubicBezTo>
                  <a:pt x="13316" y="18696"/>
                  <a:pt x="13367" y="18702"/>
                  <a:pt x="13415" y="18716"/>
                </a:cubicBezTo>
                <a:cubicBezTo>
                  <a:pt x="13419" y="18718"/>
                  <a:pt x="13424" y="18720"/>
                  <a:pt x="13428" y="1872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22800" y="6276960"/>
            <a:ext cx="1873080" cy="22320"/>
          </a:xfrm>
          <a:custGeom>
            <a:avLst/>
            <a:gdLst/>
            <a:ahLst/>
            <a:rect l="l" t="t" r="r" b="b"/>
            <a:pathLst>
              <a:path w="5200" h="63">
                <a:moveTo>
                  <a:pt x="10065" y="18061"/>
                </a:moveTo>
                <a:cubicBezTo>
                  <a:pt x="10149" y="18072"/>
                  <a:pt x="10236" y="18084"/>
                  <a:pt x="10322" y="18097"/>
                </a:cubicBezTo>
                <a:cubicBezTo>
                  <a:pt x="10384" y="18106"/>
                  <a:pt x="10445" y="18114"/>
                  <a:pt x="10506" y="18117"/>
                </a:cubicBezTo>
                <a:cubicBezTo>
                  <a:pt x="10533" y="18119"/>
                  <a:pt x="10557" y="18118"/>
                  <a:pt x="10584" y="18119"/>
                </a:cubicBezTo>
                <a:cubicBezTo>
                  <a:pt x="10707" y="18123"/>
                  <a:pt x="10830" y="18113"/>
                  <a:pt x="10952" y="18110"/>
                </a:cubicBezTo>
                <a:cubicBezTo>
                  <a:pt x="11102" y="18106"/>
                  <a:pt x="11251" y="18125"/>
                  <a:pt x="11400" y="18119"/>
                </a:cubicBezTo>
                <a:cubicBezTo>
                  <a:pt x="11463" y="18117"/>
                  <a:pt x="11525" y="18111"/>
                  <a:pt x="11588" y="18105"/>
                </a:cubicBezTo>
                <a:cubicBezTo>
                  <a:pt x="11699" y="18095"/>
                  <a:pt x="11811" y="18089"/>
                  <a:pt x="11922" y="18082"/>
                </a:cubicBezTo>
                <a:cubicBezTo>
                  <a:pt x="12011" y="18077"/>
                  <a:pt x="12097" y="18076"/>
                  <a:pt x="12186" y="18083"/>
                </a:cubicBezTo>
                <a:cubicBezTo>
                  <a:pt x="12329" y="18095"/>
                  <a:pt x="12474" y="18097"/>
                  <a:pt x="12617" y="18104"/>
                </a:cubicBezTo>
                <a:cubicBezTo>
                  <a:pt x="12667" y="18107"/>
                  <a:pt x="12717" y="18104"/>
                  <a:pt x="12767" y="18107"/>
                </a:cubicBezTo>
                <a:cubicBezTo>
                  <a:pt x="12897" y="18114"/>
                  <a:pt x="13022" y="18117"/>
                  <a:pt x="13152" y="18111"/>
                </a:cubicBezTo>
                <a:cubicBezTo>
                  <a:pt x="13314" y="18103"/>
                  <a:pt x="13476" y="18104"/>
                  <a:pt x="13638" y="18095"/>
                </a:cubicBezTo>
                <a:cubicBezTo>
                  <a:pt x="13741" y="18090"/>
                  <a:pt x="13843" y="18088"/>
                  <a:pt x="13946" y="18082"/>
                </a:cubicBezTo>
                <a:cubicBezTo>
                  <a:pt x="14025" y="18078"/>
                  <a:pt x="14103" y="18084"/>
                  <a:pt x="14182" y="18079"/>
                </a:cubicBezTo>
                <a:cubicBezTo>
                  <a:pt x="14313" y="18071"/>
                  <a:pt x="14436" y="18067"/>
                  <a:pt x="14568" y="18074"/>
                </a:cubicBezTo>
                <a:cubicBezTo>
                  <a:pt x="14626" y="18077"/>
                  <a:pt x="14682" y="18074"/>
                  <a:pt x="14740" y="18074"/>
                </a:cubicBezTo>
                <a:cubicBezTo>
                  <a:pt x="14791" y="18074"/>
                  <a:pt x="14842" y="18073"/>
                  <a:pt x="14892" y="18073"/>
                </a:cubicBezTo>
                <a:cubicBezTo>
                  <a:pt x="14924" y="18073"/>
                  <a:pt x="14956" y="18074"/>
                  <a:pt x="14988" y="18074"/>
                </a:cubicBezTo>
                <a:cubicBezTo>
                  <a:pt x="15081" y="18075"/>
                  <a:pt x="15172" y="18081"/>
                  <a:pt x="15264" y="1808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67200" y="6084720"/>
            <a:ext cx="514440" cy="27000"/>
          </a:xfrm>
          <a:custGeom>
            <a:avLst/>
            <a:gdLst/>
            <a:ahLst/>
            <a:rect l="l" t="t" r="r" b="b"/>
            <a:pathLst>
              <a:path w="1429" h="78">
                <a:moveTo>
                  <a:pt x="11869" y="17535"/>
                </a:moveTo>
                <a:cubicBezTo>
                  <a:pt x="11854" y="17526"/>
                  <a:pt x="11849" y="17525"/>
                  <a:pt x="11855" y="17547"/>
                </a:cubicBezTo>
                <a:cubicBezTo>
                  <a:pt x="11878" y="17550"/>
                  <a:pt x="11902" y="17552"/>
                  <a:pt x="11925" y="17557"/>
                </a:cubicBezTo>
                <a:cubicBezTo>
                  <a:pt x="11952" y="17563"/>
                  <a:pt x="11974" y="17565"/>
                  <a:pt x="12002" y="17567"/>
                </a:cubicBezTo>
                <a:cubicBezTo>
                  <a:pt x="12036" y="17570"/>
                  <a:pt x="12071" y="17573"/>
                  <a:pt x="12105" y="17575"/>
                </a:cubicBezTo>
                <a:cubicBezTo>
                  <a:pt x="12162" y="17579"/>
                  <a:pt x="12220" y="17577"/>
                  <a:pt x="12278" y="17579"/>
                </a:cubicBezTo>
                <a:cubicBezTo>
                  <a:pt x="12318" y="17580"/>
                  <a:pt x="12358" y="17584"/>
                  <a:pt x="12398" y="17585"/>
                </a:cubicBezTo>
                <a:cubicBezTo>
                  <a:pt x="12435" y="17586"/>
                  <a:pt x="12473" y="17587"/>
                  <a:pt x="12510" y="17585"/>
                </a:cubicBezTo>
                <a:cubicBezTo>
                  <a:pt x="12546" y="17583"/>
                  <a:pt x="12581" y="17581"/>
                  <a:pt x="12617" y="17580"/>
                </a:cubicBezTo>
                <a:cubicBezTo>
                  <a:pt x="12657" y="17579"/>
                  <a:pt x="12698" y="17573"/>
                  <a:pt x="12738" y="17570"/>
                </a:cubicBezTo>
                <a:cubicBezTo>
                  <a:pt x="12767" y="17568"/>
                  <a:pt x="12796" y="17568"/>
                  <a:pt x="12825" y="17569"/>
                </a:cubicBezTo>
                <a:cubicBezTo>
                  <a:pt x="12853" y="17570"/>
                  <a:pt x="12880" y="17571"/>
                  <a:pt x="12908" y="17572"/>
                </a:cubicBezTo>
                <a:cubicBezTo>
                  <a:pt x="12937" y="17573"/>
                  <a:pt x="12966" y="17572"/>
                  <a:pt x="12995" y="17573"/>
                </a:cubicBezTo>
                <a:cubicBezTo>
                  <a:pt x="13036" y="17575"/>
                  <a:pt x="13077" y="17577"/>
                  <a:pt x="13118" y="17580"/>
                </a:cubicBezTo>
                <a:cubicBezTo>
                  <a:pt x="13140" y="17582"/>
                  <a:pt x="13162" y="17585"/>
                  <a:pt x="13184" y="17588"/>
                </a:cubicBezTo>
                <a:cubicBezTo>
                  <a:pt x="13208" y="17591"/>
                  <a:pt x="13232" y="17594"/>
                  <a:pt x="13255" y="17598"/>
                </a:cubicBezTo>
                <a:cubicBezTo>
                  <a:pt x="13269" y="17600"/>
                  <a:pt x="13274" y="17600"/>
                  <a:pt x="13283" y="1760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10040" y="6027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971" y="17372"/>
                </a:moveTo>
                <a:lnTo>
                  <a:pt x="11971" y="17372"/>
                </a:lnTo>
                <a:lnTo>
                  <a:pt x="11971" y="17372"/>
                </a:lnTo>
                <a:lnTo>
                  <a:pt x="11971" y="17372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70240" y="6031080"/>
            <a:ext cx="405000" cy="21960"/>
          </a:xfrm>
          <a:custGeom>
            <a:avLst/>
            <a:gdLst/>
            <a:ahLst/>
            <a:rect l="l" t="t" r="r" b="b"/>
            <a:pathLst>
              <a:path w="1126" h="61">
                <a:moveTo>
                  <a:pt x="12416" y="17403"/>
                </a:moveTo>
                <a:cubicBezTo>
                  <a:pt x="12440" y="17401"/>
                  <a:pt x="12463" y="17400"/>
                  <a:pt x="12487" y="17399"/>
                </a:cubicBezTo>
                <a:cubicBezTo>
                  <a:pt x="12517" y="17398"/>
                  <a:pt x="12547" y="17395"/>
                  <a:pt x="12577" y="17393"/>
                </a:cubicBezTo>
                <a:cubicBezTo>
                  <a:pt x="12602" y="17391"/>
                  <a:pt x="12626" y="17391"/>
                  <a:pt x="12651" y="17389"/>
                </a:cubicBezTo>
                <a:cubicBezTo>
                  <a:pt x="12672" y="17387"/>
                  <a:pt x="12692" y="17385"/>
                  <a:pt x="12713" y="17383"/>
                </a:cubicBezTo>
                <a:cubicBezTo>
                  <a:pt x="12766" y="17378"/>
                  <a:pt x="12818" y="17387"/>
                  <a:pt x="12871" y="17389"/>
                </a:cubicBezTo>
                <a:cubicBezTo>
                  <a:pt x="12899" y="17390"/>
                  <a:pt x="12926" y="17393"/>
                  <a:pt x="12954" y="17396"/>
                </a:cubicBezTo>
                <a:cubicBezTo>
                  <a:pt x="12974" y="17398"/>
                  <a:pt x="12994" y="17400"/>
                  <a:pt x="13014" y="17403"/>
                </a:cubicBezTo>
                <a:cubicBezTo>
                  <a:pt x="13049" y="17409"/>
                  <a:pt x="13083" y="17414"/>
                  <a:pt x="13118" y="17417"/>
                </a:cubicBezTo>
                <a:cubicBezTo>
                  <a:pt x="13137" y="17419"/>
                  <a:pt x="13155" y="17420"/>
                  <a:pt x="13174" y="17423"/>
                </a:cubicBezTo>
                <a:cubicBezTo>
                  <a:pt x="13202" y="17427"/>
                  <a:pt x="13227" y="17430"/>
                  <a:pt x="13255" y="17431"/>
                </a:cubicBezTo>
                <a:cubicBezTo>
                  <a:pt x="13283" y="17432"/>
                  <a:pt x="13310" y="17435"/>
                  <a:pt x="13338" y="17436"/>
                </a:cubicBezTo>
                <a:cubicBezTo>
                  <a:pt x="13371" y="17438"/>
                  <a:pt x="13410" y="17445"/>
                  <a:pt x="13443" y="17439"/>
                </a:cubicBezTo>
                <a:cubicBezTo>
                  <a:pt x="13463" y="17435"/>
                  <a:pt x="13479" y="17427"/>
                  <a:pt x="13499" y="17424"/>
                </a:cubicBezTo>
                <a:cubicBezTo>
                  <a:pt x="13532" y="17420"/>
                  <a:pt x="13533" y="17417"/>
                  <a:pt x="13529" y="1744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2400" y="6037200"/>
            <a:ext cx="154080" cy="20880"/>
          </a:xfrm>
          <a:custGeom>
            <a:avLst/>
            <a:gdLst/>
            <a:ahLst/>
            <a:rect l="l" t="t" r="r" b="b"/>
            <a:pathLst>
              <a:path w="427" h="56">
                <a:moveTo>
                  <a:pt x="11926" y="17403"/>
                </a:moveTo>
                <a:cubicBezTo>
                  <a:pt x="11945" y="17399"/>
                  <a:pt x="11963" y="17404"/>
                  <a:pt x="11982" y="17401"/>
                </a:cubicBezTo>
                <a:cubicBezTo>
                  <a:pt x="12002" y="17398"/>
                  <a:pt x="12022" y="17401"/>
                  <a:pt x="12043" y="17408"/>
                </a:cubicBezTo>
                <a:cubicBezTo>
                  <a:pt x="12062" y="17414"/>
                  <a:pt x="12080" y="17410"/>
                  <a:pt x="12098" y="17415"/>
                </a:cubicBezTo>
                <a:cubicBezTo>
                  <a:pt x="12121" y="17422"/>
                  <a:pt x="12143" y="17424"/>
                  <a:pt x="12167" y="17429"/>
                </a:cubicBezTo>
                <a:cubicBezTo>
                  <a:pt x="12187" y="17433"/>
                  <a:pt x="12203" y="17435"/>
                  <a:pt x="12223" y="17436"/>
                </a:cubicBezTo>
                <a:cubicBezTo>
                  <a:pt x="12245" y="17438"/>
                  <a:pt x="12266" y="17446"/>
                  <a:pt x="12287" y="17445"/>
                </a:cubicBezTo>
                <a:cubicBezTo>
                  <a:pt x="12312" y="17444"/>
                  <a:pt x="12328" y="17444"/>
                  <a:pt x="12352" y="1745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67200" y="6022800"/>
            <a:ext cx="595440" cy="17640"/>
          </a:xfrm>
          <a:custGeom>
            <a:avLst/>
            <a:gdLst/>
            <a:ahLst/>
            <a:rect l="l" t="t" r="r" b="b"/>
            <a:pathLst>
              <a:path w="1651" h="48">
                <a:moveTo>
                  <a:pt x="11925" y="17439"/>
                </a:moveTo>
                <a:cubicBezTo>
                  <a:pt x="11909" y="17432"/>
                  <a:pt x="11893" y="17427"/>
                  <a:pt x="11877" y="17420"/>
                </a:cubicBezTo>
                <a:cubicBezTo>
                  <a:pt x="11901" y="17419"/>
                  <a:pt x="11920" y="17418"/>
                  <a:pt x="11945" y="17412"/>
                </a:cubicBezTo>
                <a:cubicBezTo>
                  <a:pt x="11966" y="17407"/>
                  <a:pt x="11983" y="17403"/>
                  <a:pt x="12005" y="17402"/>
                </a:cubicBezTo>
                <a:cubicBezTo>
                  <a:pt x="12052" y="17401"/>
                  <a:pt x="12099" y="17393"/>
                  <a:pt x="12145" y="17392"/>
                </a:cubicBezTo>
                <a:cubicBezTo>
                  <a:pt x="12173" y="17392"/>
                  <a:pt x="12204" y="17396"/>
                  <a:pt x="12232" y="17395"/>
                </a:cubicBezTo>
                <a:cubicBezTo>
                  <a:pt x="12252" y="17394"/>
                  <a:pt x="12267" y="17397"/>
                  <a:pt x="12287" y="17398"/>
                </a:cubicBezTo>
                <a:cubicBezTo>
                  <a:pt x="12308" y="17399"/>
                  <a:pt x="12327" y="17401"/>
                  <a:pt x="12348" y="17403"/>
                </a:cubicBezTo>
                <a:cubicBezTo>
                  <a:pt x="12367" y="17405"/>
                  <a:pt x="12388" y="17406"/>
                  <a:pt x="12408" y="17408"/>
                </a:cubicBezTo>
                <a:cubicBezTo>
                  <a:pt x="12428" y="17410"/>
                  <a:pt x="12447" y="17413"/>
                  <a:pt x="12467" y="17412"/>
                </a:cubicBezTo>
                <a:cubicBezTo>
                  <a:pt x="12488" y="17411"/>
                  <a:pt x="12507" y="17407"/>
                  <a:pt x="12528" y="17406"/>
                </a:cubicBezTo>
                <a:cubicBezTo>
                  <a:pt x="12583" y="17403"/>
                  <a:pt x="12628" y="17405"/>
                  <a:pt x="12682" y="17412"/>
                </a:cubicBezTo>
                <a:cubicBezTo>
                  <a:pt x="12705" y="17415"/>
                  <a:pt x="12728" y="17419"/>
                  <a:pt x="12751" y="17420"/>
                </a:cubicBezTo>
                <a:cubicBezTo>
                  <a:pt x="12772" y="17421"/>
                  <a:pt x="12794" y="17420"/>
                  <a:pt x="12815" y="17421"/>
                </a:cubicBezTo>
                <a:cubicBezTo>
                  <a:pt x="12836" y="17422"/>
                  <a:pt x="12854" y="17421"/>
                  <a:pt x="12875" y="17417"/>
                </a:cubicBezTo>
                <a:cubicBezTo>
                  <a:pt x="12897" y="17412"/>
                  <a:pt x="12913" y="17402"/>
                  <a:pt x="12934" y="17398"/>
                </a:cubicBezTo>
                <a:cubicBezTo>
                  <a:pt x="12951" y="17395"/>
                  <a:pt x="12978" y="17392"/>
                  <a:pt x="12995" y="17393"/>
                </a:cubicBezTo>
                <a:cubicBezTo>
                  <a:pt x="13015" y="17394"/>
                  <a:pt x="13036" y="17397"/>
                  <a:pt x="13056" y="17399"/>
                </a:cubicBezTo>
                <a:cubicBezTo>
                  <a:pt x="13086" y="17402"/>
                  <a:pt x="13115" y="17408"/>
                  <a:pt x="13144" y="17411"/>
                </a:cubicBezTo>
                <a:cubicBezTo>
                  <a:pt x="13163" y="17413"/>
                  <a:pt x="13184" y="17412"/>
                  <a:pt x="13202" y="17412"/>
                </a:cubicBezTo>
                <a:cubicBezTo>
                  <a:pt x="13221" y="17412"/>
                  <a:pt x="13241" y="17409"/>
                  <a:pt x="13260" y="17411"/>
                </a:cubicBezTo>
                <a:cubicBezTo>
                  <a:pt x="13309" y="17416"/>
                  <a:pt x="13355" y="17405"/>
                  <a:pt x="13402" y="17409"/>
                </a:cubicBezTo>
                <a:cubicBezTo>
                  <a:pt x="13421" y="17410"/>
                  <a:pt x="13439" y="17416"/>
                  <a:pt x="13458" y="17418"/>
                </a:cubicBezTo>
                <a:cubicBezTo>
                  <a:pt x="13480" y="17421"/>
                  <a:pt x="13494" y="17426"/>
                  <a:pt x="13514" y="17434"/>
                </a:cubicBezTo>
                <a:cubicBezTo>
                  <a:pt x="13518" y="17436"/>
                  <a:pt x="13523" y="17437"/>
                  <a:pt x="13527" y="1743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0160" y="6027840"/>
            <a:ext cx="249480" cy="23760"/>
          </a:xfrm>
          <a:custGeom>
            <a:avLst/>
            <a:gdLst/>
            <a:ahLst/>
            <a:rect l="l" t="t" r="r" b="b"/>
            <a:pathLst>
              <a:path w="691" h="68">
                <a:moveTo>
                  <a:pt x="13513" y="17386"/>
                </a:moveTo>
                <a:cubicBezTo>
                  <a:pt x="13533" y="17394"/>
                  <a:pt x="13545" y="17402"/>
                  <a:pt x="13566" y="17405"/>
                </a:cubicBezTo>
                <a:cubicBezTo>
                  <a:pt x="13600" y="17410"/>
                  <a:pt x="13544" y="17406"/>
                  <a:pt x="13536" y="17406"/>
                </a:cubicBezTo>
                <a:cubicBezTo>
                  <a:pt x="13515" y="17405"/>
                  <a:pt x="13497" y="17401"/>
                  <a:pt x="13476" y="17405"/>
                </a:cubicBezTo>
                <a:cubicBezTo>
                  <a:pt x="13455" y="17409"/>
                  <a:pt x="13435" y="17416"/>
                  <a:pt x="13416" y="17424"/>
                </a:cubicBezTo>
                <a:cubicBezTo>
                  <a:pt x="13395" y="17433"/>
                  <a:pt x="13377" y="17427"/>
                  <a:pt x="13354" y="17429"/>
                </a:cubicBezTo>
                <a:cubicBezTo>
                  <a:pt x="13333" y="17430"/>
                  <a:pt x="13316" y="17432"/>
                  <a:pt x="13295" y="17429"/>
                </a:cubicBezTo>
                <a:cubicBezTo>
                  <a:pt x="13274" y="17426"/>
                  <a:pt x="13250" y="17421"/>
                  <a:pt x="13229" y="17421"/>
                </a:cubicBezTo>
                <a:cubicBezTo>
                  <a:pt x="13207" y="17421"/>
                  <a:pt x="13187" y="17423"/>
                  <a:pt x="13165" y="17421"/>
                </a:cubicBezTo>
                <a:cubicBezTo>
                  <a:pt x="13143" y="17419"/>
                  <a:pt x="13128" y="17421"/>
                  <a:pt x="13106" y="17423"/>
                </a:cubicBezTo>
                <a:cubicBezTo>
                  <a:pt x="13091" y="17423"/>
                  <a:pt x="13086" y="17423"/>
                  <a:pt x="13076" y="17423"/>
                </a:cubicBezTo>
                <a:cubicBezTo>
                  <a:pt x="13103" y="17418"/>
                  <a:pt x="13128" y="17409"/>
                  <a:pt x="13155" y="17405"/>
                </a:cubicBezTo>
                <a:cubicBezTo>
                  <a:pt x="13177" y="17401"/>
                  <a:pt x="13199" y="17400"/>
                  <a:pt x="13221" y="17396"/>
                </a:cubicBezTo>
                <a:cubicBezTo>
                  <a:pt x="13260" y="17389"/>
                  <a:pt x="13299" y="17384"/>
                  <a:pt x="13338" y="17380"/>
                </a:cubicBezTo>
                <a:cubicBezTo>
                  <a:pt x="13357" y="17378"/>
                  <a:pt x="13370" y="17377"/>
                  <a:pt x="13388" y="17371"/>
                </a:cubicBezTo>
                <a:cubicBezTo>
                  <a:pt x="13429" y="17369"/>
                  <a:pt x="13342" y="17380"/>
                  <a:pt x="13338" y="17381"/>
                </a:cubicBezTo>
                <a:cubicBezTo>
                  <a:pt x="13319" y="17384"/>
                  <a:pt x="13298" y="17383"/>
                  <a:pt x="13279" y="17386"/>
                </a:cubicBezTo>
                <a:cubicBezTo>
                  <a:pt x="13260" y="17389"/>
                  <a:pt x="13240" y="17393"/>
                  <a:pt x="13220" y="17390"/>
                </a:cubicBezTo>
                <a:cubicBezTo>
                  <a:pt x="13197" y="17387"/>
                  <a:pt x="13176" y="17386"/>
                  <a:pt x="13152" y="17387"/>
                </a:cubicBezTo>
                <a:cubicBezTo>
                  <a:pt x="13124" y="17389"/>
                  <a:pt x="13097" y="17396"/>
                  <a:pt x="13069" y="17395"/>
                </a:cubicBezTo>
                <a:cubicBezTo>
                  <a:pt x="13046" y="17394"/>
                  <a:pt x="13027" y="17391"/>
                  <a:pt x="13004" y="17392"/>
                </a:cubicBezTo>
                <a:cubicBezTo>
                  <a:pt x="12984" y="17393"/>
                  <a:pt x="12962" y="17394"/>
                  <a:pt x="12943" y="17401"/>
                </a:cubicBezTo>
                <a:cubicBezTo>
                  <a:pt x="12918" y="17410"/>
                  <a:pt x="12903" y="17416"/>
                  <a:pt x="12889" y="1743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84640" y="6272280"/>
            <a:ext cx="517320" cy="27000"/>
          </a:xfrm>
          <a:custGeom>
            <a:avLst/>
            <a:gdLst/>
            <a:ahLst/>
            <a:rect l="l" t="t" r="r" b="b"/>
            <a:pathLst>
              <a:path w="1438" h="74">
                <a:moveTo>
                  <a:pt x="9957" y="18091"/>
                </a:moveTo>
                <a:cubicBezTo>
                  <a:pt x="9978" y="18081"/>
                  <a:pt x="9981" y="18080"/>
                  <a:pt x="10012" y="18077"/>
                </a:cubicBezTo>
                <a:cubicBezTo>
                  <a:pt x="10045" y="18074"/>
                  <a:pt x="10076" y="18083"/>
                  <a:pt x="10109" y="18080"/>
                </a:cubicBezTo>
                <a:cubicBezTo>
                  <a:pt x="10142" y="18077"/>
                  <a:pt x="10175" y="18072"/>
                  <a:pt x="10208" y="18069"/>
                </a:cubicBezTo>
                <a:cubicBezTo>
                  <a:pt x="10229" y="18067"/>
                  <a:pt x="10249" y="18062"/>
                  <a:pt x="10270" y="18061"/>
                </a:cubicBezTo>
                <a:cubicBezTo>
                  <a:pt x="10289" y="18060"/>
                  <a:pt x="10312" y="18063"/>
                  <a:pt x="10330" y="18060"/>
                </a:cubicBezTo>
                <a:cubicBezTo>
                  <a:pt x="10352" y="18057"/>
                  <a:pt x="10371" y="18050"/>
                  <a:pt x="10393" y="18049"/>
                </a:cubicBezTo>
                <a:cubicBezTo>
                  <a:pt x="10418" y="18047"/>
                  <a:pt x="10456" y="18044"/>
                  <a:pt x="10480" y="18049"/>
                </a:cubicBezTo>
                <a:cubicBezTo>
                  <a:pt x="10504" y="18054"/>
                  <a:pt x="10528" y="18062"/>
                  <a:pt x="10553" y="18067"/>
                </a:cubicBezTo>
                <a:cubicBezTo>
                  <a:pt x="10574" y="18071"/>
                  <a:pt x="10590" y="18070"/>
                  <a:pt x="10611" y="18072"/>
                </a:cubicBezTo>
                <a:cubicBezTo>
                  <a:pt x="10642" y="18074"/>
                  <a:pt x="10670" y="18074"/>
                  <a:pt x="10701" y="18069"/>
                </a:cubicBezTo>
                <a:cubicBezTo>
                  <a:pt x="10722" y="18066"/>
                  <a:pt x="10736" y="18072"/>
                  <a:pt x="10755" y="18072"/>
                </a:cubicBezTo>
                <a:cubicBezTo>
                  <a:pt x="10782" y="18071"/>
                  <a:pt x="10807" y="18068"/>
                  <a:pt x="10834" y="18069"/>
                </a:cubicBezTo>
                <a:cubicBezTo>
                  <a:pt x="10852" y="18070"/>
                  <a:pt x="10871" y="18064"/>
                  <a:pt x="10888" y="18066"/>
                </a:cubicBezTo>
                <a:cubicBezTo>
                  <a:pt x="10909" y="18068"/>
                  <a:pt x="10927" y="18069"/>
                  <a:pt x="10948" y="18070"/>
                </a:cubicBezTo>
                <a:cubicBezTo>
                  <a:pt x="10968" y="18071"/>
                  <a:pt x="10987" y="18076"/>
                  <a:pt x="11007" y="18079"/>
                </a:cubicBezTo>
                <a:cubicBezTo>
                  <a:pt x="11033" y="18082"/>
                  <a:pt x="11058" y="18084"/>
                  <a:pt x="11084" y="18086"/>
                </a:cubicBezTo>
                <a:cubicBezTo>
                  <a:pt x="11102" y="18088"/>
                  <a:pt x="11120" y="18087"/>
                  <a:pt x="11138" y="18086"/>
                </a:cubicBezTo>
                <a:cubicBezTo>
                  <a:pt x="11163" y="18085"/>
                  <a:pt x="11185" y="18087"/>
                  <a:pt x="11209" y="18094"/>
                </a:cubicBezTo>
                <a:cubicBezTo>
                  <a:pt x="11230" y="18100"/>
                  <a:pt x="11248" y="18097"/>
                  <a:pt x="11268" y="18102"/>
                </a:cubicBezTo>
                <a:cubicBezTo>
                  <a:pt x="11290" y="18108"/>
                  <a:pt x="11304" y="18115"/>
                  <a:pt x="11328" y="18116"/>
                </a:cubicBezTo>
                <a:cubicBezTo>
                  <a:pt x="11349" y="18117"/>
                  <a:pt x="11363" y="18117"/>
                  <a:pt x="11381" y="18116"/>
                </a:cubicBezTo>
                <a:cubicBezTo>
                  <a:pt x="11385" y="18115"/>
                  <a:pt x="11390" y="18114"/>
                  <a:pt x="11394" y="1811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6320" y="6251400"/>
            <a:ext cx="398160" cy="38160"/>
          </a:xfrm>
          <a:custGeom>
            <a:avLst/>
            <a:gdLst/>
            <a:ahLst/>
            <a:rect l="l" t="t" r="r" b="b"/>
            <a:pathLst>
              <a:path w="1105" h="109">
                <a:moveTo>
                  <a:pt x="11024" y="18128"/>
                </a:moveTo>
                <a:cubicBezTo>
                  <a:pt x="11036" y="18109"/>
                  <a:pt x="11047" y="18088"/>
                  <a:pt x="11072" y="18070"/>
                </a:cubicBezTo>
                <a:cubicBezTo>
                  <a:pt x="11092" y="18055"/>
                  <a:pt x="11120" y="18053"/>
                  <a:pt x="11143" y="18048"/>
                </a:cubicBezTo>
                <a:cubicBezTo>
                  <a:pt x="11166" y="18043"/>
                  <a:pt x="11177" y="18048"/>
                  <a:pt x="11200" y="18049"/>
                </a:cubicBezTo>
                <a:cubicBezTo>
                  <a:pt x="11226" y="18050"/>
                  <a:pt x="11252" y="18049"/>
                  <a:pt x="11277" y="18049"/>
                </a:cubicBezTo>
                <a:cubicBezTo>
                  <a:pt x="11295" y="18049"/>
                  <a:pt x="11315" y="18046"/>
                  <a:pt x="11333" y="18048"/>
                </a:cubicBezTo>
                <a:cubicBezTo>
                  <a:pt x="11353" y="18050"/>
                  <a:pt x="11371" y="18056"/>
                  <a:pt x="11391" y="18057"/>
                </a:cubicBezTo>
                <a:cubicBezTo>
                  <a:pt x="11412" y="18058"/>
                  <a:pt x="11431" y="18060"/>
                  <a:pt x="11453" y="18063"/>
                </a:cubicBezTo>
                <a:cubicBezTo>
                  <a:pt x="11477" y="18066"/>
                  <a:pt x="11489" y="18058"/>
                  <a:pt x="11512" y="18055"/>
                </a:cubicBezTo>
                <a:cubicBezTo>
                  <a:pt x="11561" y="18049"/>
                  <a:pt x="11619" y="18049"/>
                  <a:pt x="11668" y="18051"/>
                </a:cubicBezTo>
                <a:cubicBezTo>
                  <a:pt x="11693" y="18052"/>
                  <a:pt x="11717" y="18057"/>
                  <a:pt x="11741" y="18061"/>
                </a:cubicBezTo>
                <a:cubicBezTo>
                  <a:pt x="11763" y="18065"/>
                  <a:pt x="11780" y="18062"/>
                  <a:pt x="11802" y="18061"/>
                </a:cubicBezTo>
                <a:cubicBezTo>
                  <a:pt x="11806" y="18061"/>
                  <a:pt x="11811" y="18061"/>
                  <a:pt x="11815" y="18061"/>
                </a:cubicBezTo>
                <a:cubicBezTo>
                  <a:pt x="11783" y="18075"/>
                  <a:pt x="11751" y="18087"/>
                  <a:pt x="11718" y="18098"/>
                </a:cubicBezTo>
                <a:cubicBezTo>
                  <a:pt x="11696" y="18106"/>
                  <a:pt x="11673" y="18109"/>
                  <a:pt x="11651" y="18117"/>
                </a:cubicBezTo>
                <a:cubicBezTo>
                  <a:pt x="11607" y="18133"/>
                  <a:pt x="11564" y="18147"/>
                  <a:pt x="11518" y="18150"/>
                </a:cubicBezTo>
                <a:cubicBezTo>
                  <a:pt x="11479" y="18152"/>
                  <a:pt x="11445" y="18140"/>
                  <a:pt x="11407" y="18136"/>
                </a:cubicBezTo>
                <a:cubicBezTo>
                  <a:pt x="11383" y="18134"/>
                  <a:pt x="11360" y="18135"/>
                  <a:pt x="11336" y="18132"/>
                </a:cubicBezTo>
                <a:cubicBezTo>
                  <a:pt x="11310" y="18129"/>
                  <a:pt x="11282" y="18124"/>
                  <a:pt x="11255" y="18125"/>
                </a:cubicBezTo>
                <a:cubicBezTo>
                  <a:pt x="11235" y="18125"/>
                  <a:pt x="11216" y="18131"/>
                  <a:pt x="11196" y="18132"/>
                </a:cubicBezTo>
                <a:cubicBezTo>
                  <a:pt x="11170" y="18134"/>
                  <a:pt x="11144" y="18140"/>
                  <a:pt x="11119" y="18138"/>
                </a:cubicBezTo>
                <a:cubicBezTo>
                  <a:pt x="11097" y="18136"/>
                  <a:pt x="11076" y="18128"/>
                  <a:pt x="11054" y="18126"/>
                </a:cubicBezTo>
                <a:cubicBezTo>
                  <a:pt x="11021" y="18123"/>
                  <a:pt x="10988" y="18119"/>
                  <a:pt x="10955" y="18116"/>
                </a:cubicBezTo>
                <a:cubicBezTo>
                  <a:pt x="10928" y="18114"/>
                  <a:pt x="10909" y="18117"/>
                  <a:pt x="10884" y="18123"/>
                </a:cubicBezTo>
                <a:cubicBezTo>
                  <a:pt x="10864" y="18128"/>
                  <a:pt x="10842" y="18137"/>
                  <a:pt x="10822" y="18139"/>
                </a:cubicBezTo>
                <a:cubicBezTo>
                  <a:pt x="10800" y="18141"/>
                  <a:pt x="10779" y="18140"/>
                  <a:pt x="10757" y="18139"/>
                </a:cubicBezTo>
                <a:cubicBezTo>
                  <a:pt x="10739" y="18138"/>
                  <a:pt x="10726" y="18145"/>
                  <a:pt x="10711" y="1814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81400" y="6327720"/>
            <a:ext cx="774720" cy="33480"/>
          </a:xfrm>
          <a:custGeom>
            <a:avLst/>
            <a:gdLst/>
            <a:ahLst/>
            <a:rect l="l" t="t" r="r" b="b"/>
            <a:pathLst>
              <a:path w="2153" h="93">
                <a:moveTo>
                  <a:pt x="10015" y="18247"/>
                </a:moveTo>
                <a:cubicBezTo>
                  <a:pt x="10010" y="18250"/>
                  <a:pt x="10005" y="18253"/>
                  <a:pt x="10000" y="18256"/>
                </a:cubicBezTo>
                <a:cubicBezTo>
                  <a:pt x="10018" y="18256"/>
                  <a:pt x="10036" y="18256"/>
                  <a:pt x="10056" y="18256"/>
                </a:cubicBezTo>
                <a:cubicBezTo>
                  <a:pt x="10077" y="18256"/>
                  <a:pt x="10098" y="18258"/>
                  <a:pt x="10118" y="18257"/>
                </a:cubicBezTo>
                <a:cubicBezTo>
                  <a:pt x="10139" y="18256"/>
                  <a:pt x="10159" y="18248"/>
                  <a:pt x="10179" y="18246"/>
                </a:cubicBezTo>
                <a:cubicBezTo>
                  <a:pt x="10200" y="18244"/>
                  <a:pt x="10221" y="18249"/>
                  <a:pt x="10242" y="18246"/>
                </a:cubicBezTo>
                <a:cubicBezTo>
                  <a:pt x="10264" y="18243"/>
                  <a:pt x="10281" y="18241"/>
                  <a:pt x="10302" y="18240"/>
                </a:cubicBezTo>
                <a:cubicBezTo>
                  <a:pt x="10326" y="18239"/>
                  <a:pt x="10349" y="18241"/>
                  <a:pt x="10372" y="18240"/>
                </a:cubicBezTo>
                <a:cubicBezTo>
                  <a:pt x="10401" y="18239"/>
                  <a:pt x="10426" y="18241"/>
                  <a:pt x="10454" y="18244"/>
                </a:cubicBezTo>
                <a:cubicBezTo>
                  <a:pt x="10476" y="18246"/>
                  <a:pt x="10499" y="18248"/>
                  <a:pt x="10520" y="18253"/>
                </a:cubicBezTo>
                <a:cubicBezTo>
                  <a:pt x="10546" y="18259"/>
                  <a:pt x="10571" y="18260"/>
                  <a:pt x="10597" y="18265"/>
                </a:cubicBezTo>
                <a:cubicBezTo>
                  <a:pt x="10617" y="18269"/>
                  <a:pt x="10636" y="18275"/>
                  <a:pt x="10655" y="18279"/>
                </a:cubicBezTo>
                <a:cubicBezTo>
                  <a:pt x="10684" y="18286"/>
                  <a:pt x="10709" y="18291"/>
                  <a:pt x="10738" y="18290"/>
                </a:cubicBezTo>
                <a:cubicBezTo>
                  <a:pt x="10764" y="18289"/>
                  <a:pt x="10790" y="18289"/>
                  <a:pt x="10816" y="18287"/>
                </a:cubicBezTo>
                <a:cubicBezTo>
                  <a:pt x="10841" y="18285"/>
                  <a:pt x="10865" y="18280"/>
                  <a:pt x="10890" y="18278"/>
                </a:cubicBezTo>
                <a:cubicBezTo>
                  <a:pt x="10911" y="18276"/>
                  <a:pt x="10931" y="18276"/>
                  <a:pt x="10952" y="18274"/>
                </a:cubicBezTo>
                <a:cubicBezTo>
                  <a:pt x="11010" y="18268"/>
                  <a:pt x="11056" y="18276"/>
                  <a:pt x="11113" y="18282"/>
                </a:cubicBezTo>
                <a:cubicBezTo>
                  <a:pt x="11143" y="18285"/>
                  <a:pt x="11170" y="18290"/>
                  <a:pt x="11200" y="18296"/>
                </a:cubicBezTo>
                <a:cubicBezTo>
                  <a:pt x="11224" y="18301"/>
                  <a:pt x="11246" y="18305"/>
                  <a:pt x="11270" y="18307"/>
                </a:cubicBezTo>
                <a:cubicBezTo>
                  <a:pt x="11299" y="18310"/>
                  <a:pt x="11327" y="18311"/>
                  <a:pt x="11356" y="18313"/>
                </a:cubicBezTo>
                <a:cubicBezTo>
                  <a:pt x="11384" y="18315"/>
                  <a:pt x="11411" y="18313"/>
                  <a:pt x="11440" y="18310"/>
                </a:cubicBezTo>
                <a:cubicBezTo>
                  <a:pt x="11462" y="18308"/>
                  <a:pt x="11485" y="18300"/>
                  <a:pt x="11508" y="18299"/>
                </a:cubicBezTo>
                <a:cubicBezTo>
                  <a:pt x="11539" y="18297"/>
                  <a:pt x="11570" y="18296"/>
                  <a:pt x="11602" y="18296"/>
                </a:cubicBezTo>
                <a:cubicBezTo>
                  <a:pt x="11645" y="18295"/>
                  <a:pt x="11686" y="18302"/>
                  <a:pt x="11728" y="18306"/>
                </a:cubicBezTo>
                <a:cubicBezTo>
                  <a:pt x="11754" y="18309"/>
                  <a:pt x="11780" y="18306"/>
                  <a:pt x="11806" y="18306"/>
                </a:cubicBezTo>
                <a:cubicBezTo>
                  <a:pt x="11847" y="18306"/>
                  <a:pt x="11887" y="18312"/>
                  <a:pt x="11928" y="18315"/>
                </a:cubicBezTo>
                <a:cubicBezTo>
                  <a:pt x="11958" y="18317"/>
                  <a:pt x="11988" y="18319"/>
                  <a:pt x="12018" y="18322"/>
                </a:cubicBezTo>
                <a:cubicBezTo>
                  <a:pt x="12048" y="18325"/>
                  <a:pt x="12075" y="18316"/>
                  <a:pt x="12104" y="18316"/>
                </a:cubicBezTo>
                <a:cubicBezTo>
                  <a:pt x="12126" y="18316"/>
                  <a:pt x="12129" y="18322"/>
                  <a:pt x="12152" y="1833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00480" y="6326280"/>
            <a:ext cx="19080" cy="7920"/>
          </a:xfrm>
          <a:custGeom>
            <a:avLst/>
            <a:gdLst/>
            <a:ahLst/>
            <a:rect l="l" t="t" r="r" b="b"/>
            <a:pathLst>
              <a:path w="53" h="19">
                <a:moveTo>
                  <a:pt x="10053" y="18204"/>
                </a:moveTo>
                <a:cubicBezTo>
                  <a:pt x="10033" y="18211"/>
                  <a:pt x="9987" y="18220"/>
                  <a:pt x="10001" y="18204"/>
                </a:cubicBezTo>
                <a:cubicBezTo>
                  <a:pt x="10019" y="18201"/>
                  <a:pt x="10023" y="18200"/>
                  <a:pt x="10034" y="1820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54360" y="6296040"/>
            <a:ext cx="339840" cy="30240"/>
          </a:xfrm>
          <a:custGeom>
            <a:avLst/>
            <a:gdLst/>
            <a:ahLst/>
            <a:rect l="l" t="t" r="r" b="b"/>
            <a:pathLst>
              <a:path w="947" h="85">
                <a:moveTo>
                  <a:pt x="13483" y="18156"/>
                </a:moveTo>
                <a:cubicBezTo>
                  <a:pt x="13503" y="18174"/>
                  <a:pt x="13519" y="18185"/>
                  <a:pt x="13545" y="18192"/>
                </a:cubicBezTo>
                <a:cubicBezTo>
                  <a:pt x="13568" y="18198"/>
                  <a:pt x="13595" y="18197"/>
                  <a:pt x="13619" y="18195"/>
                </a:cubicBezTo>
                <a:cubicBezTo>
                  <a:pt x="13642" y="18194"/>
                  <a:pt x="13664" y="18185"/>
                  <a:pt x="13687" y="18182"/>
                </a:cubicBezTo>
                <a:cubicBezTo>
                  <a:pt x="13706" y="18179"/>
                  <a:pt x="13726" y="18175"/>
                  <a:pt x="13746" y="18173"/>
                </a:cubicBezTo>
                <a:cubicBezTo>
                  <a:pt x="13768" y="18171"/>
                  <a:pt x="13797" y="18167"/>
                  <a:pt x="13819" y="18170"/>
                </a:cubicBezTo>
                <a:cubicBezTo>
                  <a:pt x="13841" y="18173"/>
                  <a:pt x="13859" y="18176"/>
                  <a:pt x="13881" y="18173"/>
                </a:cubicBezTo>
                <a:cubicBezTo>
                  <a:pt x="13901" y="18170"/>
                  <a:pt x="13927" y="18168"/>
                  <a:pt x="13946" y="18160"/>
                </a:cubicBezTo>
                <a:cubicBezTo>
                  <a:pt x="13968" y="18151"/>
                  <a:pt x="13986" y="18136"/>
                  <a:pt x="14011" y="18133"/>
                </a:cubicBezTo>
                <a:cubicBezTo>
                  <a:pt x="14041" y="18129"/>
                  <a:pt x="14069" y="18125"/>
                  <a:pt x="14099" y="18125"/>
                </a:cubicBezTo>
                <a:cubicBezTo>
                  <a:pt x="14124" y="18125"/>
                  <a:pt x="14146" y="18122"/>
                  <a:pt x="14170" y="18119"/>
                </a:cubicBezTo>
                <a:cubicBezTo>
                  <a:pt x="14195" y="18116"/>
                  <a:pt x="14213" y="18114"/>
                  <a:pt x="14238" y="18116"/>
                </a:cubicBezTo>
                <a:cubicBezTo>
                  <a:pt x="14258" y="18118"/>
                  <a:pt x="14279" y="18120"/>
                  <a:pt x="14299" y="18122"/>
                </a:cubicBezTo>
                <a:cubicBezTo>
                  <a:pt x="14323" y="18124"/>
                  <a:pt x="14347" y="18130"/>
                  <a:pt x="14371" y="18131"/>
                </a:cubicBezTo>
                <a:cubicBezTo>
                  <a:pt x="14391" y="18132"/>
                  <a:pt x="14409" y="18133"/>
                  <a:pt x="14429" y="1813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18080" y="6273720"/>
            <a:ext cx="588960" cy="28800"/>
          </a:xfrm>
          <a:custGeom>
            <a:avLst/>
            <a:gdLst/>
            <a:ahLst/>
            <a:rect l="l" t="t" r="r" b="b"/>
            <a:pathLst>
              <a:path w="1638" h="80">
                <a:moveTo>
                  <a:pt x="13660" y="18104"/>
                </a:moveTo>
                <a:cubicBezTo>
                  <a:pt x="13665" y="18081"/>
                  <a:pt x="13655" y="18069"/>
                  <a:pt x="13678" y="18061"/>
                </a:cubicBezTo>
                <a:cubicBezTo>
                  <a:pt x="13708" y="18050"/>
                  <a:pt x="13753" y="18067"/>
                  <a:pt x="13783" y="18067"/>
                </a:cubicBezTo>
                <a:cubicBezTo>
                  <a:pt x="13806" y="18067"/>
                  <a:pt x="13821" y="18072"/>
                  <a:pt x="13844" y="18074"/>
                </a:cubicBezTo>
                <a:cubicBezTo>
                  <a:pt x="13866" y="18075"/>
                  <a:pt x="13894" y="18076"/>
                  <a:pt x="13916" y="18076"/>
                </a:cubicBezTo>
                <a:cubicBezTo>
                  <a:pt x="13957" y="18075"/>
                  <a:pt x="13998" y="18073"/>
                  <a:pt x="14039" y="18072"/>
                </a:cubicBezTo>
                <a:cubicBezTo>
                  <a:pt x="14065" y="18072"/>
                  <a:pt x="14092" y="18075"/>
                  <a:pt x="14119" y="18073"/>
                </a:cubicBezTo>
                <a:cubicBezTo>
                  <a:pt x="14145" y="18071"/>
                  <a:pt x="14169" y="18062"/>
                  <a:pt x="14195" y="18060"/>
                </a:cubicBezTo>
                <a:cubicBezTo>
                  <a:pt x="14217" y="18058"/>
                  <a:pt x="14239" y="18059"/>
                  <a:pt x="14261" y="18058"/>
                </a:cubicBezTo>
                <a:cubicBezTo>
                  <a:pt x="14280" y="18057"/>
                  <a:pt x="14298" y="18056"/>
                  <a:pt x="14317" y="18055"/>
                </a:cubicBezTo>
                <a:cubicBezTo>
                  <a:pt x="14349" y="18054"/>
                  <a:pt x="14385" y="18052"/>
                  <a:pt x="14416" y="18058"/>
                </a:cubicBezTo>
                <a:cubicBezTo>
                  <a:pt x="14442" y="18063"/>
                  <a:pt x="14467" y="18068"/>
                  <a:pt x="14493" y="18073"/>
                </a:cubicBezTo>
                <a:cubicBezTo>
                  <a:pt x="14512" y="18077"/>
                  <a:pt x="14532" y="18083"/>
                  <a:pt x="14553" y="18085"/>
                </a:cubicBezTo>
                <a:cubicBezTo>
                  <a:pt x="14584" y="18087"/>
                  <a:pt x="14616" y="18082"/>
                  <a:pt x="14645" y="18082"/>
                </a:cubicBezTo>
                <a:cubicBezTo>
                  <a:pt x="14666" y="18082"/>
                  <a:pt x="14690" y="18087"/>
                  <a:pt x="14711" y="18085"/>
                </a:cubicBezTo>
                <a:cubicBezTo>
                  <a:pt x="14734" y="18083"/>
                  <a:pt x="14754" y="18080"/>
                  <a:pt x="14778" y="18082"/>
                </a:cubicBezTo>
                <a:cubicBezTo>
                  <a:pt x="14808" y="18084"/>
                  <a:pt x="14837" y="18094"/>
                  <a:pt x="14867" y="18101"/>
                </a:cubicBezTo>
                <a:cubicBezTo>
                  <a:pt x="14899" y="18108"/>
                  <a:pt x="14931" y="18111"/>
                  <a:pt x="14963" y="18119"/>
                </a:cubicBezTo>
                <a:cubicBezTo>
                  <a:pt x="14998" y="18128"/>
                  <a:pt x="15017" y="18133"/>
                  <a:pt x="15053" y="18128"/>
                </a:cubicBezTo>
                <a:cubicBezTo>
                  <a:pt x="15085" y="18124"/>
                  <a:pt x="15113" y="18114"/>
                  <a:pt x="15146" y="18113"/>
                </a:cubicBezTo>
                <a:cubicBezTo>
                  <a:pt x="15168" y="18113"/>
                  <a:pt x="15184" y="18109"/>
                  <a:pt x="15205" y="18107"/>
                </a:cubicBezTo>
                <a:cubicBezTo>
                  <a:pt x="15222" y="18105"/>
                  <a:pt x="15260" y="18095"/>
                  <a:pt x="15276" y="18100"/>
                </a:cubicBezTo>
                <a:cubicBezTo>
                  <a:pt x="15290" y="18104"/>
                  <a:pt x="15295" y="18107"/>
                  <a:pt x="15297" y="1811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6680" y="6327720"/>
            <a:ext cx="550800" cy="25560"/>
          </a:xfrm>
          <a:custGeom>
            <a:avLst/>
            <a:gdLst/>
            <a:ahLst/>
            <a:rect l="l" t="t" r="r" b="b"/>
            <a:pathLst>
              <a:path w="1529" h="68">
                <a:moveTo>
                  <a:pt x="13591" y="18344"/>
                </a:moveTo>
                <a:cubicBezTo>
                  <a:pt x="13612" y="18340"/>
                  <a:pt x="13624" y="18340"/>
                  <a:pt x="13647" y="18341"/>
                </a:cubicBezTo>
                <a:cubicBezTo>
                  <a:pt x="13693" y="18342"/>
                  <a:pt x="13740" y="18343"/>
                  <a:pt x="13786" y="18336"/>
                </a:cubicBezTo>
                <a:cubicBezTo>
                  <a:pt x="13820" y="18331"/>
                  <a:pt x="13859" y="18328"/>
                  <a:pt x="13891" y="18318"/>
                </a:cubicBezTo>
                <a:cubicBezTo>
                  <a:pt x="13915" y="18311"/>
                  <a:pt x="13930" y="18307"/>
                  <a:pt x="13955" y="18305"/>
                </a:cubicBezTo>
                <a:cubicBezTo>
                  <a:pt x="13987" y="18302"/>
                  <a:pt x="14016" y="18302"/>
                  <a:pt x="14048" y="18306"/>
                </a:cubicBezTo>
                <a:cubicBezTo>
                  <a:pt x="14078" y="18309"/>
                  <a:pt x="14106" y="18310"/>
                  <a:pt x="14136" y="18312"/>
                </a:cubicBezTo>
                <a:cubicBezTo>
                  <a:pt x="14168" y="18314"/>
                  <a:pt x="14197" y="18310"/>
                  <a:pt x="14228" y="18310"/>
                </a:cubicBezTo>
                <a:cubicBezTo>
                  <a:pt x="14268" y="18310"/>
                  <a:pt x="14309" y="18309"/>
                  <a:pt x="14348" y="18310"/>
                </a:cubicBezTo>
                <a:cubicBezTo>
                  <a:pt x="14373" y="18310"/>
                  <a:pt x="14404" y="18310"/>
                  <a:pt x="14428" y="18315"/>
                </a:cubicBezTo>
                <a:cubicBezTo>
                  <a:pt x="14449" y="18320"/>
                  <a:pt x="14469" y="18323"/>
                  <a:pt x="14490" y="18327"/>
                </a:cubicBezTo>
                <a:cubicBezTo>
                  <a:pt x="14518" y="18332"/>
                  <a:pt x="14535" y="18337"/>
                  <a:pt x="14564" y="18334"/>
                </a:cubicBezTo>
                <a:cubicBezTo>
                  <a:pt x="14585" y="18332"/>
                  <a:pt x="14606" y="18331"/>
                  <a:pt x="14627" y="18328"/>
                </a:cubicBezTo>
                <a:cubicBezTo>
                  <a:pt x="14649" y="18325"/>
                  <a:pt x="14670" y="18324"/>
                  <a:pt x="14692" y="18322"/>
                </a:cubicBezTo>
                <a:cubicBezTo>
                  <a:pt x="14728" y="18319"/>
                  <a:pt x="14739" y="18326"/>
                  <a:pt x="14772" y="18336"/>
                </a:cubicBezTo>
                <a:cubicBezTo>
                  <a:pt x="14791" y="18342"/>
                  <a:pt x="14809" y="18350"/>
                  <a:pt x="14828" y="18355"/>
                </a:cubicBezTo>
                <a:cubicBezTo>
                  <a:pt x="14852" y="18361"/>
                  <a:pt x="14867" y="18357"/>
                  <a:pt x="14890" y="18356"/>
                </a:cubicBezTo>
                <a:cubicBezTo>
                  <a:pt x="14911" y="18355"/>
                  <a:pt x="14930" y="18350"/>
                  <a:pt x="14951" y="18349"/>
                </a:cubicBezTo>
                <a:cubicBezTo>
                  <a:pt x="14972" y="18348"/>
                  <a:pt x="14995" y="18347"/>
                  <a:pt x="15016" y="18347"/>
                </a:cubicBezTo>
                <a:cubicBezTo>
                  <a:pt x="15044" y="18347"/>
                  <a:pt x="15077" y="18348"/>
                  <a:pt x="15103" y="18358"/>
                </a:cubicBezTo>
                <a:cubicBezTo>
                  <a:pt x="15108" y="18362"/>
                  <a:pt x="15114" y="18365"/>
                  <a:pt x="15119" y="1836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0040" y="6373800"/>
            <a:ext cx="34920" cy="3240"/>
          </a:xfrm>
          <a:custGeom>
            <a:avLst/>
            <a:gdLst/>
            <a:ahLst/>
            <a:rect l="l" t="t" r="r" b="b"/>
            <a:pathLst>
              <a:path w="97" h="9">
                <a:moveTo>
                  <a:pt x="15223" y="18338"/>
                </a:moveTo>
                <a:cubicBezTo>
                  <a:pt x="15245" y="18336"/>
                  <a:pt x="15267" y="18336"/>
                  <a:pt x="15288" y="18334"/>
                </a:cubicBezTo>
                <a:cubicBezTo>
                  <a:pt x="15304" y="18331"/>
                  <a:pt x="15309" y="18330"/>
                  <a:pt x="15319" y="1833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32280" y="6516720"/>
            <a:ext cx="682560" cy="19080"/>
          </a:xfrm>
          <a:custGeom>
            <a:avLst/>
            <a:gdLst/>
            <a:ahLst/>
            <a:rect l="l" t="t" r="r" b="b"/>
            <a:pathLst>
              <a:path w="1896" h="54">
                <a:moveTo>
                  <a:pt x="11755" y="18741"/>
                </a:moveTo>
                <a:cubicBezTo>
                  <a:pt x="11777" y="18746"/>
                  <a:pt x="11798" y="18750"/>
                  <a:pt x="11820" y="18753"/>
                </a:cubicBezTo>
                <a:cubicBezTo>
                  <a:pt x="11856" y="18758"/>
                  <a:pt x="11893" y="18759"/>
                  <a:pt x="11929" y="18763"/>
                </a:cubicBezTo>
                <a:cubicBezTo>
                  <a:pt x="12000" y="18770"/>
                  <a:pt x="12064" y="18786"/>
                  <a:pt x="12136" y="18779"/>
                </a:cubicBezTo>
                <a:cubicBezTo>
                  <a:pt x="12158" y="18777"/>
                  <a:pt x="12179" y="18772"/>
                  <a:pt x="12201" y="18771"/>
                </a:cubicBezTo>
                <a:cubicBezTo>
                  <a:pt x="12258" y="18769"/>
                  <a:pt x="12314" y="18762"/>
                  <a:pt x="12371" y="18754"/>
                </a:cubicBezTo>
                <a:cubicBezTo>
                  <a:pt x="12403" y="18749"/>
                  <a:pt x="12433" y="18741"/>
                  <a:pt x="12464" y="18735"/>
                </a:cubicBezTo>
                <a:cubicBezTo>
                  <a:pt x="12494" y="18730"/>
                  <a:pt x="12517" y="18734"/>
                  <a:pt x="12546" y="18735"/>
                </a:cubicBezTo>
                <a:cubicBezTo>
                  <a:pt x="12572" y="18736"/>
                  <a:pt x="12598" y="18735"/>
                  <a:pt x="12625" y="18737"/>
                </a:cubicBezTo>
                <a:cubicBezTo>
                  <a:pt x="12650" y="18739"/>
                  <a:pt x="12677" y="18741"/>
                  <a:pt x="12702" y="18743"/>
                </a:cubicBezTo>
                <a:cubicBezTo>
                  <a:pt x="12722" y="18745"/>
                  <a:pt x="12745" y="18752"/>
                  <a:pt x="12764" y="18753"/>
                </a:cubicBezTo>
                <a:cubicBezTo>
                  <a:pt x="12787" y="18754"/>
                  <a:pt x="12813" y="18754"/>
                  <a:pt x="12837" y="18754"/>
                </a:cubicBezTo>
                <a:cubicBezTo>
                  <a:pt x="12876" y="18754"/>
                  <a:pt x="12907" y="18755"/>
                  <a:pt x="12945" y="18760"/>
                </a:cubicBezTo>
                <a:cubicBezTo>
                  <a:pt x="12970" y="18763"/>
                  <a:pt x="12991" y="18761"/>
                  <a:pt x="13016" y="18759"/>
                </a:cubicBezTo>
                <a:cubicBezTo>
                  <a:pt x="13053" y="18757"/>
                  <a:pt x="13090" y="18754"/>
                  <a:pt x="13127" y="18754"/>
                </a:cubicBezTo>
                <a:cubicBezTo>
                  <a:pt x="13153" y="18754"/>
                  <a:pt x="13179" y="18756"/>
                  <a:pt x="13205" y="18757"/>
                </a:cubicBezTo>
                <a:cubicBezTo>
                  <a:pt x="13230" y="18758"/>
                  <a:pt x="13255" y="18760"/>
                  <a:pt x="13280" y="18760"/>
                </a:cubicBezTo>
                <a:cubicBezTo>
                  <a:pt x="13323" y="18760"/>
                  <a:pt x="13365" y="18762"/>
                  <a:pt x="13408" y="18766"/>
                </a:cubicBezTo>
                <a:cubicBezTo>
                  <a:pt x="13431" y="18768"/>
                  <a:pt x="13450" y="18767"/>
                  <a:pt x="13473" y="18766"/>
                </a:cubicBezTo>
                <a:cubicBezTo>
                  <a:pt x="13495" y="18765"/>
                  <a:pt x="13517" y="18765"/>
                  <a:pt x="13539" y="18765"/>
                </a:cubicBezTo>
                <a:cubicBezTo>
                  <a:pt x="13559" y="18765"/>
                  <a:pt x="13583" y="18767"/>
                  <a:pt x="13603" y="18765"/>
                </a:cubicBezTo>
                <a:cubicBezTo>
                  <a:pt x="13619" y="18763"/>
                  <a:pt x="13634" y="18761"/>
                  <a:pt x="13650" y="1876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11760" y="6519960"/>
            <a:ext cx="9360" cy="1440"/>
          </a:xfrm>
          <a:custGeom>
            <a:avLst/>
            <a:gdLst/>
            <a:ahLst/>
            <a:rect l="l" t="t" r="r" b="b"/>
            <a:pathLst>
              <a:path w="28" h="1">
                <a:moveTo>
                  <a:pt x="11724" y="18735"/>
                </a:moveTo>
                <a:cubicBezTo>
                  <a:pt x="11715" y="18735"/>
                  <a:pt x="11706" y="18735"/>
                  <a:pt x="11697" y="1873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36960" y="6515280"/>
            <a:ext cx="20520" cy="10800"/>
          </a:xfrm>
          <a:custGeom>
            <a:avLst/>
            <a:gdLst/>
            <a:ahLst/>
            <a:rect l="l" t="t" r="r" b="b"/>
            <a:pathLst>
              <a:path w="60" h="33">
                <a:moveTo>
                  <a:pt x="11784" y="18754"/>
                </a:moveTo>
                <a:cubicBezTo>
                  <a:pt x="11798" y="18754"/>
                  <a:pt x="11813" y="18754"/>
                  <a:pt x="11827" y="18754"/>
                </a:cubicBezTo>
                <a:cubicBezTo>
                  <a:pt x="11822" y="18751"/>
                  <a:pt x="11773" y="18718"/>
                  <a:pt x="11768" y="18722"/>
                </a:cubicBezTo>
                <a:cubicBezTo>
                  <a:pt x="11770" y="18739"/>
                  <a:pt x="11772" y="18744"/>
                  <a:pt x="11789" y="1874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6307200"/>
            <a:ext cx="345960" cy="30240"/>
          </a:xfrm>
          <a:custGeom>
            <a:avLst/>
            <a:gdLst/>
            <a:ahLst/>
            <a:rect l="l" t="t" r="r" b="b"/>
            <a:pathLst>
              <a:path w="962" h="84">
                <a:moveTo>
                  <a:pt x="9962" y="18200"/>
                </a:moveTo>
                <a:cubicBezTo>
                  <a:pt x="9948" y="18207"/>
                  <a:pt x="9943" y="18209"/>
                  <a:pt x="9933" y="18212"/>
                </a:cubicBezTo>
                <a:cubicBezTo>
                  <a:pt x="9952" y="18216"/>
                  <a:pt x="9971" y="18220"/>
                  <a:pt x="9991" y="18223"/>
                </a:cubicBezTo>
                <a:cubicBezTo>
                  <a:pt x="10011" y="18226"/>
                  <a:pt x="10029" y="18219"/>
                  <a:pt x="10047" y="18220"/>
                </a:cubicBezTo>
                <a:cubicBezTo>
                  <a:pt x="10069" y="18222"/>
                  <a:pt x="10086" y="18223"/>
                  <a:pt x="10108" y="18222"/>
                </a:cubicBezTo>
                <a:cubicBezTo>
                  <a:pt x="10131" y="18221"/>
                  <a:pt x="10151" y="18212"/>
                  <a:pt x="10173" y="18209"/>
                </a:cubicBezTo>
                <a:cubicBezTo>
                  <a:pt x="10194" y="18206"/>
                  <a:pt x="10213" y="18201"/>
                  <a:pt x="10234" y="18198"/>
                </a:cubicBezTo>
                <a:cubicBezTo>
                  <a:pt x="10255" y="18195"/>
                  <a:pt x="10276" y="18193"/>
                  <a:pt x="10297" y="18192"/>
                </a:cubicBezTo>
                <a:cubicBezTo>
                  <a:pt x="10329" y="18190"/>
                  <a:pt x="10361" y="18192"/>
                  <a:pt x="10393" y="18190"/>
                </a:cubicBezTo>
                <a:cubicBezTo>
                  <a:pt x="10414" y="18188"/>
                  <a:pt x="10431" y="18192"/>
                  <a:pt x="10452" y="18192"/>
                </a:cubicBezTo>
                <a:cubicBezTo>
                  <a:pt x="10472" y="18192"/>
                  <a:pt x="10494" y="18187"/>
                  <a:pt x="10513" y="18187"/>
                </a:cubicBezTo>
                <a:cubicBezTo>
                  <a:pt x="10531" y="18187"/>
                  <a:pt x="10553" y="18187"/>
                  <a:pt x="10571" y="18188"/>
                </a:cubicBezTo>
                <a:cubicBezTo>
                  <a:pt x="10599" y="18190"/>
                  <a:pt x="10625" y="18186"/>
                  <a:pt x="10653" y="18187"/>
                </a:cubicBezTo>
                <a:cubicBezTo>
                  <a:pt x="10673" y="18188"/>
                  <a:pt x="10691" y="18190"/>
                  <a:pt x="10711" y="18187"/>
                </a:cubicBezTo>
                <a:cubicBezTo>
                  <a:pt x="10738" y="18183"/>
                  <a:pt x="10764" y="18176"/>
                  <a:pt x="10791" y="18173"/>
                </a:cubicBezTo>
                <a:cubicBezTo>
                  <a:pt x="10811" y="18171"/>
                  <a:pt x="10834" y="18175"/>
                  <a:pt x="10854" y="18170"/>
                </a:cubicBezTo>
                <a:cubicBezTo>
                  <a:pt x="10878" y="18161"/>
                  <a:pt x="10885" y="18160"/>
                  <a:pt x="10894" y="1814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08400" y="6315120"/>
            <a:ext cx="587160" cy="34920"/>
          </a:xfrm>
          <a:custGeom>
            <a:avLst/>
            <a:gdLst/>
            <a:ahLst/>
            <a:rect l="l" t="t" r="r" b="b"/>
            <a:pathLst>
              <a:path w="1635" h="96">
                <a:moveTo>
                  <a:pt x="11654" y="18265"/>
                </a:moveTo>
                <a:cubicBezTo>
                  <a:pt x="11655" y="18260"/>
                  <a:pt x="11655" y="18256"/>
                  <a:pt x="11656" y="18251"/>
                </a:cubicBezTo>
                <a:cubicBezTo>
                  <a:pt x="11637" y="18251"/>
                  <a:pt x="11618" y="18258"/>
                  <a:pt x="11600" y="18257"/>
                </a:cubicBezTo>
                <a:cubicBezTo>
                  <a:pt x="11573" y="18256"/>
                  <a:pt x="11544" y="18249"/>
                  <a:pt x="11517" y="18247"/>
                </a:cubicBezTo>
                <a:cubicBezTo>
                  <a:pt x="11491" y="18245"/>
                  <a:pt x="11467" y="18244"/>
                  <a:pt x="11441" y="18246"/>
                </a:cubicBezTo>
                <a:cubicBezTo>
                  <a:pt x="11422" y="18248"/>
                  <a:pt x="11403" y="18252"/>
                  <a:pt x="11384" y="18253"/>
                </a:cubicBezTo>
                <a:cubicBezTo>
                  <a:pt x="11361" y="18255"/>
                  <a:pt x="11341" y="18251"/>
                  <a:pt x="11319" y="18250"/>
                </a:cubicBezTo>
                <a:cubicBezTo>
                  <a:pt x="11299" y="18249"/>
                  <a:pt x="11279" y="18253"/>
                  <a:pt x="11259" y="18250"/>
                </a:cubicBezTo>
                <a:cubicBezTo>
                  <a:pt x="11240" y="18248"/>
                  <a:pt x="11220" y="18238"/>
                  <a:pt x="11200" y="18238"/>
                </a:cubicBezTo>
                <a:cubicBezTo>
                  <a:pt x="11172" y="18238"/>
                  <a:pt x="11142" y="18234"/>
                  <a:pt x="11112" y="18234"/>
                </a:cubicBezTo>
                <a:cubicBezTo>
                  <a:pt x="11087" y="18234"/>
                  <a:pt x="11064" y="18230"/>
                  <a:pt x="11041" y="18229"/>
                </a:cubicBezTo>
                <a:cubicBezTo>
                  <a:pt x="11014" y="18228"/>
                  <a:pt x="11012" y="18224"/>
                  <a:pt x="10987" y="18215"/>
                </a:cubicBezTo>
                <a:cubicBezTo>
                  <a:pt x="10945" y="18200"/>
                  <a:pt x="10899" y="18198"/>
                  <a:pt x="10857" y="18204"/>
                </a:cubicBezTo>
                <a:cubicBezTo>
                  <a:pt x="10838" y="18207"/>
                  <a:pt x="10819" y="18204"/>
                  <a:pt x="10800" y="18207"/>
                </a:cubicBezTo>
                <a:cubicBezTo>
                  <a:pt x="10775" y="18211"/>
                  <a:pt x="10766" y="18213"/>
                  <a:pt x="10742" y="18209"/>
                </a:cubicBezTo>
                <a:cubicBezTo>
                  <a:pt x="10723" y="18206"/>
                  <a:pt x="10705" y="18206"/>
                  <a:pt x="10687" y="18204"/>
                </a:cubicBezTo>
                <a:cubicBezTo>
                  <a:pt x="10670" y="18202"/>
                  <a:pt x="10652" y="18198"/>
                  <a:pt x="10633" y="18198"/>
                </a:cubicBezTo>
                <a:cubicBezTo>
                  <a:pt x="10605" y="18198"/>
                  <a:pt x="10576" y="18198"/>
                  <a:pt x="10548" y="18198"/>
                </a:cubicBezTo>
                <a:cubicBezTo>
                  <a:pt x="10526" y="18198"/>
                  <a:pt x="10503" y="18198"/>
                  <a:pt x="10482" y="18201"/>
                </a:cubicBezTo>
                <a:cubicBezTo>
                  <a:pt x="10458" y="18204"/>
                  <a:pt x="10450" y="18203"/>
                  <a:pt x="10427" y="18198"/>
                </a:cubicBezTo>
                <a:cubicBezTo>
                  <a:pt x="10407" y="18194"/>
                  <a:pt x="10388" y="18190"/>
                  <a:pt x="10368" y="18187"/>
                </a:cubicBezTo>
                <a:cubicBezTo>
                  <a:pt x="10349" y="18185"/>
                  <a:pt x="10331" y="18185"/>
                  <a:pt x="10312" y="18187"/>
                </a:cubicBezTo>
                <a:cubicBezTo>
                  <a:pt x="10293" y="18189"/>
                  <a:pt x="10274" y="18191"/>
                  <a:pt x="10254" y="18192"/>
                </a:cubicBezTo>
                <a:cubicBezTo>
                  <a:pt x="10233" y="18193"/>
                  <a:pt x="10213" y="18195"/>
                  <a:pt x="10192" y="18197"/>
                </a:cubicBezTo>
                <a:cubicBezTo>
                  <a:pt x="10163" y="18200"/>
                  <a:pt x="10133" y="18204"/>
                  <a:pt x="10105" y="18203"/>
                </a:cubicBezTo>
                <a:cubicBezTo>
                  <a:pt x="10086" y="18202"/>
                  <a:pt x="10068" y="18200"/>
                  <a:pt x="10049" y="18197"/>
                </a:cubicBezTo>
                <a:cubicBezTo>
                  <a:pt x="10013" y="18192"/>
                  <a:pt x="10030" y="18195"/>
                  <a:pt x="10040" y="1817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82840" y="6330960"/>
            <a:ext cx="204840" cy="30240"/>
          </a:xfrm>
          <a:custGeom>
            <a:avLst/>
            <a:gdLst/>
            <a:ahLst/>
            <a:rect l="l" t="t" r="r" b="b"/>
            <a:pathLst>
              <a:path w="568" h="82">
                <a:moveTo>
                  <a:pt x="9962" y="18294"/>
                </a:moveTo>
                <a:cubicBezTo>
                  <a:pt x="9950" y="18267"/>
                  <a:pt x="9956" y="18269"/>
                  <a:pt x="9982" y="18262"/>
                </a:cubicBezTo>
                <a:cubicBezTo>
                  <a:pt x="10007" y="18255"/>
                  <a:pt x="10016" y="18244"/>
                  <a:pt x="10040" y="18246"/>
                </a:cubicBezTo>
                <a:cubicBezTo>
                  <a:pt x="10060" y="18247"/>
                  <a:pt x="10078" y="18243"/>
                  <a:pt x="10098" y="18244"/>
                </a:cubicBezTo>
                <a:cubicBezTo>
                  <a:pt x="10124" y="18245"/>
                  <a:pt x="10136" y="18238"/>
                  <a:pt x="10160" y="18229"/>
                </a:cubicBezTo>
                <a:cubicBezTo>
                  <a:pt x="10178" y="18222"/>
                  <a:pt x="10200" y="18226"/>
                  <a:pt x="10219" y="18220"/>
                </a:cubicBezTo>
                <a:cubicBezTo>
                  <a:pt x="10242" y="18212"/>
                  <a:pt x="10252" y="18218"/>
                  <a:pt x="10276" y="18220"/>
                </a:cubicBezTo>
                <a:cubicBezTo>
                  <a:pt x="10296" y="18222"/>
                  <a:pt x="10317" y="18217"/>
                  <a:pt x="10336" y="18220"/>
                </a:cubicBezTo>
                <a:cubicBezTo>
                  <a:pt x="10357" y="18223"/>
                  <a:pt x="10376" y="18223"/>
                  <a:pt x="10398" y="18225"/>
                </a:cubicBezTo>
                <a:cubicBezTo>
                  <a:pt x="10423" y="18228"/>
                  <a:pt x="10448" y="18236"/>
                  <a:pt x="10473" y="18238"/>
                </a:cubicBezTo>
                <a:cubicBezTo>
                  <a:pt x="10494" y="18240"/>
                  <a:pt x="10501" y="18243"/>
                  <a:pt x="10520" y="1824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81400" y="6327720"/>
            <a:ext cx="585720" cy="28800"/>
          </a:xfrm>
          <a:custGeom>
            <a:avLst/>
            <a:gdLst/>
            <a:ahLst/>
            <a:rect l="l" t="t" r="r" b="b"/>
            <a:pathLst>
              <a:path w="1627" h="80">
                <a:moveTo>
                  <a:pt x="10031" y="18313"/>
                </a:moveTo>
                <a:cubicBezTo>
                  <a:pt x="10027" y="18316"/>
                  <a:pt x="10022" y="18319"/>
                  <a:pt x="10018" y="18322"/>
                </a:cubicBezTo>
                <a:cubicBezTo>
                  <a:pt x="10045" y="18325"/>
                  <a:pt x="10068" y="18328"/>
                  <a:pt x="10096" y="18327"/>
                </a:cubicBezTo>
                <a:cubicBezTo>
                  <a:pt x="10114" y="18326"/>
                  <a:pt x="10133" y="18324"/>
                  <a:pt x="10152" y="18322"/>
                </a:cubicBezTo>
                <a:cubicBezTo>
                  <a:pt x="10174" y="18320"/>
                  <a:pt x="10194" y="18322"/>
                  <a:pt x="10216" y="18321"/>
                </a:cubicBezTo>
                <a:cubicBezTo>
                  <a:pt x="10233" y="18320"/>
                  <a:pt x="10253" y="18318"/>
                  <a:pt x="10272" y="18316"/>
                </a:cubicBezTo>
                <a:cubicBezTo>
                  <a:pt x="10293" y="18314"/>
                  <a:pt x="10309" y="18317"/>
                  <a:pt x="10330" y="18318"/>
                </a:cubicBezTo>
                <a:cubicBezTo>
                  <a:pt x="10366" y="18320"/>
                  <a:pt x="10399" y="18315"/>
                  <a:pt x="10435" y="18313"/>
                </a:cubicBezTo>
                <a:cubicBezTo>
                  <a:pt x="10455" y="18312"/>
                  <a:pt x="10475" y="18311"/>
                  <a:pt x="10495" y="18310"/>
                </a:cubicBezTo>
                <a:cubicBezTo>
                  <a:pt x="10516" y="18309"/>
                  <a:pt x="10536" y="18311"/>
                  <a:pt x="10557" y="18312"/>
                </a:cubicBezTo>
                <a:cubicBezTo>
                  <a:pt x="10580" y="18313"/>
                  <a:pt x="10604" y="18312"/>
                  <a:pt x="10628" y="18313"/>
                </a:cubicBezTo>
                <a:cubicBezTo>
                  <a:pt x="10648" y="18314"/>
                  <a:pt x="10667" y="18320"/>
                  <a:pt x="10687" y="18321"/>
                </a:cubicBezTo>
                <a:cubicBezTo>
                  <a:pt x="10705" y="18322"/>
                  <a:pt x="10726" y="18317"/>
                  <a:pt x="10744" y="18319"/>
                </a:cubicBezTo>
                <a:cubicBezTo>
                  <a:pt x="10766" y="18321"/>
                  <a:pt x="10787" y="18323"/>
                  <a:pt x="10809" y="18324"/>
                </a:cubicBezTo>
                <a:cubicBezTo>
                  <a:pt x="10834" y="18326"/>
                  <a:pt x="10858" y="18323"/>
                  <a:pt x="10883" y="18325"/>
                </a:cubicBezTo>
                <a:cubicBezTo>
                  <a:pt x="10916" y="18328"/>
                  <a:pt x="10946" y="18337"/>
                  <a:pt x="10980" y="18338"/>
                </a:cubicBezTo>
                <a:cubicBezTo>
                  <a:pt x="10999" y="18338"/>
                  <a:pt x="11019" y="18333"/>
                  <a:pt x="11036" y="18333"/>
                </a:cubicBezTo>
                <a:cubicBezTo>
                  <a:pt x="11057" y="18333"/>
                  <a:pt x="11077" y="18336"/>
                  <a:pt x="11098" y="18336"/>
                </a:cubicBezTo>
                <a:cubicBezTo>
                  <a:pt x="11116" y="18336"/>
                  <a:pt x="11139" y="18339"/>
                  <a:pt x="11157" y="18338"/>
                </a:cubicBezTo>
                <a:cubicBezTo>
                  <a:pt x="11180" y="18336"/>
                  <a:pt x="11203" y="18326"/>
                  <a:pt x="11225" y="18325"/>
                </a:cubicBezTo>
                <a:cubicBezTo>
                  <a:pt x="11242" y="18324"/>
                  <a:pt x="11270" y="18325"/>
                  <a:pt x="11288" y="18327"/>
                </a:cubicBezTo>
                <a:cubicBezTo>
                  <a:pt x="11307" y="18329"/>
                  <a:pt x="11326" y="18335"/>
                  <a:pt x="11345" y="18338"/>
                </a:cubicBezTo>
                <a:cubicBezTo>
                  <a:pt x="11369" y="18342"/>
                  <a:pt x="11385" y="18342"/>
                  <a:pt x="11409" y="18336"/>
                </a:cubicBezTo>
                <a:cubicBezTo>
                  <a:pt x="11449" y="18327"/>
                  <a:pt x="11471" y="18326"/>
                  <a:pt x="11511" y="18333"/>
                </a:cubicBezTo>
                <a:cubicBezTo>
                  <a:pt x="11529" y="18336"/>
                  <a:pt x="11549" y="18338"/>
                  <a:pt x="11567" y="18343"/>
                </a:cubicBezTo>
                <a:cubicBezTo>
                  <a:pt x="11593" y="18350"/>
                  <a:pt x="11606" y="18361"/>
                  <a:pt x="11628" y="18375"/>
                </a:cubicBezTo>
                <a:cubicBezTo>
                  <a:pt x="11633" y="18379"/>
                  <a:pt x="11639" y="18382"/>
                  <a:pt x="11644" y="1838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2700"/>
            </a:b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br>
              <a:rPr sz="2700"/>
            </a:b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2.) a link to Jupitergrades</a:t>
            </a:r>
            <a:br>
              <a:rPr sz="2700"/>
            </a:b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3.) links to the other main pages of site</a:t>
            </a:r>
            <a:br>
              <a:rPr sz="2700"/>
            </a:b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4.) navigation bar on right linking to other main pages</a:t>
            </a:r>
            <a:endParaRPr b="1" lang="en-US" sz="27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15835" t="21945" r="19339" b="9093"/>
          <a:stretch/>
        </p:blipFill>
        <p:spPr>
          <a:xfrm>
            <a:off x="914400" y="2209680"/>
            <a:ext cx="7543800" cy="4648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590920" y="2895480"/>
            <a:ext cx="1447920" cy="2895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497720" y="2825640"/>
            <a:ext cx="574560" cy="25560"/>
          </a:xfrm>
          <a:custGeom>
            <a:avLst/>
            <a:gdLst/>
            <a:ahLst/>
            <a:rect l="l" t="t" r="r" b="b"/>
            <a:pathLst>
              <a:path w="1597" h="68">
                <a:moveTo>
                  <a:pt x="19526" y="9808"/>
                </a:moveTo>
                <a:cubicBezTo>
                  <a:pt x="19540" y="9821"/>
                  <a:pt x="19545" y="9831"/>
                  <a:pt x="19574" y="9838"/>
                </a:cubicBezTo>
                <a:cubicBezTo>
                  <a:pt x="19626" y="9851"/>
                  <a:pt x="19682" y="9851"/>
                  <a:pt x="19735" y="9857"/>
                </a:cubicBezTo>
                <a:cubicBezTo>
                  <a:pt x="19759" y="9860"/>
                  <a:pt x="19783" y="9864"/>
                  <a:pt x="19807" y="9867"/>
                </a:cubicBezTo>
                <a:cubicBezTo>
                  <a:pt x="19847" y="9873"/>
                  <a:pt x="19887" y="9876"/>
                  <a:pt x="19927" y="9873"/>
                </a:cubicBezTo>
                <a:cubicBezTo>
                  <a:pt x="19954" y="9871"/>
                  <a:pt x="19980" y="9869"/>
                  <a:pt x="20007" y="9867"/>
                </a:cubicBezTo>
                <a:cubicBezTo>
                  <a:pt x="20029" y="9865"/>
                  <a:pt x="20050" y="9863"/>
                  <a:pt x="20072" y="9863"/>
                </a:cubicBezTo>
                <a:cubicBezTo>
                  <a:pt x="20097" y="9863"/>
                  <a:pt x="20114" y="9860"/>
                  <a:pt x="20138" y="9856"/>
                </a:cubicBezTo>
                <a:cubicBezTo>
                  <a:pt x="20164" y="9852"/>
                  <a:pt x="20192" y="9844"/>
                  <a:pt x="20218" y="9842"/>
                </a:cubicBezTo>
                <a:cubicBezTo>
                  <a:pt x="20237" y="9840"/>
                  <a:pt x="20260" y="9840"/>
                  <a:pt x="20280" y="9839"/>
                </a:cubicBezTo>
                <a:cubicBezTo>
                  <a:pt x="20348" y="9837"/>
                  <a:pt x="20413" y="9852"/>
                  <a:pt x="20480" y="9850"/>
                </a:cubicBezTo>
                <a:cubicBezTo>
                  <a:pt x="20507" y="9849"/>
                  <a:pt x="20535" y="9847"/>
                  <a:pt x="20563" y="9847"/>
                </a:cubicBezTo>
                <a:cubicBezTo>
                  <a:pt x="20586" y="9847"/>
                  <a:pt x="20609" y="9846"/>
                  <a:pt x="20632" y="9847"/>
                </a:cubicBezTo>
                <a:cubicBezTo>
                  <a:pt x="20667" y="9849"/>
                  <a:pt x="20702" y="9854"/>
                  <a:pt x="20737" y="9857"/>
                </a:cubicBezTo>
                <a:cubicBezTo>
                  <a:pt x="20767" y="9860"/>
                  <a:pt x="20800" y="9863"/>
                  <a:pt x="20830" y="9862"/>
                </a:cubicBezTo>
                <a:cubicBezTo>
                  <a:pt x="20852" y="9862"/>
                  <a:pt x="20870" y="9862"/>
                  <a:pt x="20892" y="9864"/>
                </a:cubicBezTo>
                <a:cubicBezTo>
                  <a:pt x="20918" y="9867"/>
                  <a:pt x="20944" y="9870"/>
                  <a:pt x="20971" y="9870"/>
                </a:cubicBezTo>
                <a:cubicBezTo>
                  <a:pt x="21001" y="9870"/>
                  <a:pt x="21032" y="9869"/>
                  <a:pt x="21062" y="9867"/>
                </a:cubicBezTo>
                <a:cubicBezTo>
                  <a:pt x="21072" y="9866"/>
                  <a:pt x="21115" y="9868"/>
                  <a:pt x="21122" y="9864"/>
                </a:cubicBezTo>
                <a:cubicBezTo>
                  <a:pt x="21122" y="9859"/>
                  <a:pt x="21122" y="9855"/>
                  <a:pt x="21122" y="985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59560" y="3228840"/>
            <a:ext cx="582840" cy="15840"/>
          </a:xfrm>
          <a:custGeom>
            <a:avLst/>
            <a:gdLst/>
            <a:ahLst/>
            <a:rect l="l" t="t" r="r" b="b"/>
            <a:pathLst>
              <a:path w="1620" h="45">
                <a:moveTo>
                  <a:pt x="19420" y="10944"/>
                </a:moveTo>
                <a:cubicBezTo>
                  <a:pt x="19447" y="10945"/>
                  <a:pt x="19475" y="10945"/>
                  <a:pt x="19503" y="10947"/>
                </a:cubicBezTo>
                <a:cubicBezTo>
                  <a:pt x="19524" y="10949"/>
                  <a:pt x="19546" y="10946"/>
                  <a:pt x="19568" y="10947"/>
                </a:cubicBezTo>
                <a:cubicBezTo>
                  <a:pt x="19594" y="10948"/>
                  <a:pt x="19619" y="10949"/>
                  <a:pt x="19645" y="10950"/>
                </a:cubicBezTo>
                <a:cubicBezTo>
                  <a:pt x="19714" y="10952"/>
                  <a:pt x="19783" y="10965"/>
                  <a:pt x="19852" y="10969"/>
                </a:cubicBezTo>
                <a:cubicBezTo>
                  <a:pt x="19888" y="10971"/>
                  <a:pt x="19921" y="10970"/>
                  <a:pt x="19957" y="10968"/>
                </a:cubicBezTo>
                <a:cubicBezTo>
                  <a:pt x="19988" y="10966"/>
                  <a:pt x="20020" y="10967"/>
                  <a:pt x="20051" y="10965"/>
                </a:cubicBezTo>
                <a:cubicBezTo>
                  <a:pt x="20095" y="10963"/>
                  <a:pt x="20139" y="10962"/>
                  <a:pt x="20183" y="10956"/>
                </a:cubicBezTo>
                <a:cubicBezTo>
                  <a:pt x="20217" y="10951"/>
                  <a:pt x="20253" y="10947"/>
                  <a:pt x="20288" y="10945"/>
                </a:cubicBezTo>
                <a:cubicBezTo>
                  <a:pt x="20332" y="10942"/>
                  <a:pt x="20377" y="10947"/>
                  <a:pt x="20421" y="10950"/>
                </a:cubicBezTo>
                <a:cubicBezTo>
                  <a:pt x="20442" y="10952"/>
                  <a:pt x="20463" y="10954"/>
                  <a:pt x="20484" y="10953"/>
                </a:cubicBezTo>
                <a:cubicBezTo>
                  <a:pt x="20526" y="10952"/>
                  <a:pt x="20568" y="10951"/>
                  <a:pt x="20610" y="10950"/>
                </a:cubicBezTo>
                <a:cubicBezTo>
                  <a:pt x="20664" y="10948"/>
                  <a:pt x="20719" y="10947"/>
                  <a:pt x="20773" y="10945"/>
                </a:cubicBezTo>
                <a:cubicBezTo>
                  <a:pt x="20809" y="10943"/>
                  <a:pt x="20846" y="10943"/>
                  <a:pt x="20882" y="10941"/>
                </a:cubicBezTo>
                <a:cubicBezTo>
                  <a:pt x="20908" y="10940"/>
                  <a:pt x="20934" y="10937"/>
                  <a:pt x="20960" y="10938"/>
                </a:cubicBezTo>
                <a:cubicBezTo>
                  <a:pt x="20993" y="10939"/>
                  <a:pt x="21010" y="10937"/>
                  <a:pt x="21039" y="1092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51640" y="3484440"/>
            <a:ext cx="625680" cy="25560"/>
          </a:xfrm>
          <a:custGeom>
            <a:avLst/>
            <a:gdLst/>
            <a:ahLst/>
            <a:rect l="l" t="t" r="r" b="b"/>
            <a:pathLst>
              <a:path w="1735" h="69">
                <a:moveTo>
                  <a:pt x="19399" y="11670"/>
                </a:moveTo>
                <a:cubicBezTo>
                  <a:pt x="19428" y="11662"/>
                  <a:pt x="19443" y="11655"/>
                  <a:pt x="19478" y="11656"/>
                </a:cubicBezTo>
                <a:cubicBezTo>
                  <a:pt x="19504" y="11657"/>
                  <a:pt x="19532" y="11658"/>
                  <a:pt x="19557" y="11659"/>
                </a:cubicBezTo>
                <a:cubicBezTo>
                  <a:pt x="19586" y="11660"/>
                  <a:pt x="19616" y="11664"/>
                  <a:pt x="19645" y="11667"/>
                </a:cubicBezTo>
                <a:cubicBezTo>
                  <a:pt x="19681" y="11671"/>
                  <a:pt x="19716" y="11679"/>
                  <a:pt x="19751" y="11684"/>
                </a:cubicBezTo>
                <a:cubicBezTo>
                  <a:pt x="19779" y="11688"/>
                  <a:pt x="19806" y="11689"/>
                  <a:pt x="19834" y="11693"/>
                </a:cubicBezTo>
                <a:cubicBezTo>
                  <a:pt x="19865" y="11697"/>
                  <a:pt x="19896" y="11700"/>
                  <a:pt x="19927" y="11702"/>
                </a:cubicBezTo>
                <a:cubicBezTo>
                  <a:pt x="19972" y="11705"/>
                  <a:pt x="20017" y="11707"/>
                  <a:pt x="20062" y="11704"/>
                </a:cubicBezTo>
                <a:cubicBezTo>
                  <a:pt x="20096" y="11702"/>
                  <a:pt x="20129" y="11692"/>
                  <a:pt x="20162" y="11687"/>
                </a:cubicBezTo>
                <a:cubicBezTo>
                  <a:pt x="20186" y="11683"/>
                  <a:pt x="20213" y="11682"/>
                  <a:pt x="20238" y="11680"/>
                </a:cubicBezTo>
                <a:cubicBezTo>
                  <a:pt x="20273" y="11678"/>
                  <a:pt x="20307" y="11677"/>
                  <a:pt x="20342" y="11674"/>
                </a:cubicBezTo>
                <a:cubicBezTo>
                  <a:pt x="20370" y="11672"/>
                  <a:pt x="20397" y="11668"/>
                  <a:pt x="20425" y="11665"/>
                </a:cubicBezTo>
                <a:cubicBezTo>
                  <a:pt x="20454" y="11662"/>
                  <a:pt x="20479" y="11661"/>
                  <a:pt x="20508" y="11662"/>
                </a:cubicBezTo>
                <a:cubicBezTo>
                  <a:pt x="20536" y="11663"/>
                  <a:pt x="20564" y="11663"/>
                  <a:pt x="20592" y="11665"/>
                </a:cubicBezTo>
                <a:cubicBezTo>
                  <a:pt x="20624" y="11667"/>
                  <a:pt x="20654" y="11670"/>
                  <a:pt x="20685" y="11670"/>
                </a:cubicBezTo>
                <a:cubicBezTo>
                  <a:pt x="20717" y="11670"/>
                  <a:pt x="20748" y="11670"/>
                  <a:pt x="20780" y="11667"/>
                </a:cubicBezTo>
                <a:cubicBezTo>
                  <a:pt x="20838" y="11662"/>
                  <a:pt x="20895" y="11656"/>
                  <a:pt x="20953" y="11655"/>
                </a:cubicBezTo>
                <a:cubicBezTo>
                  <a:pt x="20976" y="11655"/>
                  <a:pt x="20998" y="11653"/>
                  <a:pt x="21021" y="11653"/>
                </a:cubicBezTo>
                <a:cubicBezTo>
                  <a:pt x="21040" y="11653"/>
                  <a:pt x="21057" y="11649"/>
                  <a:pt x="21076" y="11650"/>
                </a:cubicBezTo>
                <a:cubicBezTo>
                  <a:pt x="21118" y="11652"/>
                  <a:pt x="21107" y="11650"/>
                  <a:pt x="21133" y="1163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93040" y="2819520"/>
            <a:ext cx="574560" cy="31680"/>
          </a:xfrm>
          <a:custGeom>
            <a:avLst/>
            <a:gdLst/>
            <a:ahLst/>
            <a:rect l="l" t="t" r="r" b="b"/>
            <a:pathLst>
              <a:path w="1595" h="88">
                <a:moveTo>
                  <a:pt x="19513" y="9847"/>
                </a:moveTo>
                <a:cubicBezTo>
                  <a:pt x="19534" y="9835"/>
                  <a:pt x="19550" y="9822"/>
                  <a:pt x="19574" y="9816"/>
                </a:cubicBezTo>
                <a:cubicBezTo>
                  <a:pt x="19615" y="9806"/>
                  <a:pt x="19666" y="9826"/>
                  <a:pt x="19707" y="9831"/>
                </a:cubicBezTo>
                <a:cubicBezTo>
                  <a:pt x="19731" y="9834"/>
                  <a:pt x="19755" y="9837"/>
                  <a:pt x="19779" y="9838"/>
                </a:cubicBezTo>
                <a:cubicBezTo>
                  <a:pt x="19807" y="9839"/>
                  <a:pt x="19833" y="9835"/>
                  <a:pt x="19861" y="9836"/>
                </a:cubicBezTo>
                <a:cubicBezTo>
                  <a:pt x="19899" y="9838"/>
                  <a:pt x="19936" y="9841"/>
                  <a:pt x="19974" y="9841"/>
                </a:cubicBezTo>
                <a:cubicBezTo>
                  <a:pt x="20001" y="9841"/>
                  <a:pt x="20027" y="9838"/>
                  <a:pt x="20054" y="9838"/>
                </a:cubicBezTo>
                <a:cubicBezTo>
                  <a:pt x="20081" y="9838"/>
                  <a:pt x="20108" y="9842"/>
                  <a:pt x="20135" y="9842"/>
                </a:cubicBezTo>
                <a:cubicBezTo>
                  <a:pt x="20212" y="9843"/>
                  <a:pt x="20289" y="9831"/>
                  <a:pt x="20365" y="9834"/>
                </a:cubicBezTo>
                <a:cubicBezTo>
                  <a:pt x="20394" y="9835"/>
                  <a:pt x="20423" y="9841"/>
                  <a:pt x="20452" y="9841"/>
                </a:cubicBezTo>
                <a:cubicBezTo>
                  <a:pt x="20472" y="9841"/>
                  <a:pt x="20492" y="9837"/>
                  <a:pt x="20512" y="9838"/>
                </a:cubicBezTo>
                <a:cubicBezTo>
                  <a:pt x="20533" y="9839"/>
                  <a:pt x="20555" y="9840"/>
                  <a:pt x="20576" y="9841"/>
                </a:cubicBezTo>
                <a:cubicBezTo>
                  <a:pt x="20598" y="9842"/>
                  <a:pt x="20621" y="9846"/>
                  <a:pt x="20643" y="9847"/>
                </a:cubicBezTo>
                <a:cubicBezTo>
                  <a:pt x="20665" y="9848"/>
                  <a:pt x="20686" y="9850"/>
                  <a:pt x="20709" y="9851"/>
                </a:cubicBezTo>
                <a:cubicBezTo>
                  <a:pt x="20739" y="9852"/>
                  <a:pt x="20770" y="9849"/>
                  <a:pt x="20799" y="9850"/>
                </a:cubicBezTo>
                <a:cubicBezTo>
                  <a:pt x="20821" y="9851"/>
                  <a:pt x="20844" y="9855"/>
                  <a:pt x="20866" y="9853"/>
                </a:cubicBezTo>
                <a:cubicBezTo>
                  <a:pt x="20886" y="9851"/>
                  <a:pt x="20909" y="9848"/>
                  <a:pt x="20929" y="9844"/>
                </a:cubicBezTo>
                <a:cubicBezTo>
                  <a:pt x="20951" y="9839"/>
                  <a:pt x="20967" y="9834"/>
                  <a:pt x="20990" y="9835"/>
                </a:cubicBezTo>
                <a:cubicBezTo>
                  <a:pt x="21011" y="9836"/>
                  <a:pt x="21032" y="9838"/>
                  <a:pt x="21052" y="9838"/>
                </a:cubicBezTo>
                <a:cubicBezTo>
                  <a:pt x="21071" y="9838"/>
                  <a:pt x="21089" y="9838"/>
                  <a:pt x="21107" y="9838"/>
                </a:cubicBezTo>
                <a:cubicBezTo>
                  <a:pt x="21082" y="9837"/>
                  <a:pt x="21063" y="9838"/>
                  <a:pt x="21036" y="9841"/>
                </a:cubicBezTo>
                <a:cubicBezTo>
                  <a:pt x="21014" y="9843"/>
                  <a:pt x="20991" y="9844"/>
                  <a:pt x="20969" y="9845"/>
                </a:cubicBezTo>
                <a:cubicBezTo>
                  <a:pt x="20949" y="9846"/>
                  <a:pt x="20930" y="9850"/>
                  <a:pt x="20910" y="9850"/>
                </a:cubicBezTo>
                <a:cubicBezTo>
                  <a:pt x="20890" y="9850"/>
                  <a:pt x="20868" y="9846"/>
                  <a:pt x="20848" y="9845"/>
                </a:cubicBezTo>
                <a:cubicBezTo>
                  <a:pt x="20789" y="9842"/>
                  <a:pt x="20733" y="9830"/>
                  <a:pt x="20674" y="9834"/>
                </a:cubicBezTo>
                <a:cubicBezTo>
                  <a:pt x="20649" y="9836"/>
                  <a:pt x="20625" y="9840"/>
                  <a:pt x="20600" y="9841"/>
                </a:cubicBezTo>
                <a:cubicBezTo>
                  <a:pt x="20576" y="9842"/>
                  <a:pt x="20553" y="9842"/>
                  <a:pt x="20529" y="9845"/>
                </a:cubicBezTo>
                <a:cubicBezTo>
                  <a:pt x="20499" y="9849"/>
                  <a:pt x="20469" y="9852"/>
                  <a:pt x="20439" y="9856"/>
                </a:cubicBezTo>
                <a:cubicBezTo>
                  <a:pt x="20413" y="9859"/>
                  <a:pt x="20387" y="9863"/>
                  <a:pt x="20360" y="9863"/>
                </a:cubicBezTo>
                <a:cubicBezTo>
                  <a:pt x="20329" y="9862"/>
                  <a:pt x="20298" y="9859"/>
                  <a:pt x="20267" y="9859"/>
                </a:cubicBezTo>
                <a:cubicBezTo>
                  <a:pt x="20230" y="9859"/>
                  <a:pt x="20192" y="9862"/>
                  <a:pt x="20155" y="9862"/>
                </a:cubicBezTo>
                <a:cubicBezTo>
                  <a:pt x="20124" y="9862"/>
                  <a:pt x="20094" y="9858"/>
                  <a:pt x="20063" y="9857"/>
                </a:cubicBezTo>
                <a:cubicBezTo>
                  <a:pt x="20036" y="9856"/>
                  <a:pt x="20010" y="9862"/>
                  <a:pt x="19983" y="9863"/>
                </a:cubicBezTo>
                <a:cubicBezTo>
                  <a:pt x="19953" y="9864"/>
                  <a:pt x="19924" y="9859"/>
                  <a:pt x="19895" y="9860"/>
                </a:cubicBezTo>
                <a:cubicBezTo>
                  <a:pt x="19877" y="9861"/>
                  <a:pt x="19858" y="9861"/>
                  <a:pt x="19840" y="9863"/>
                </a:cubicBezTo>
                <a:cubicBezTo>
                  <a:pt x="19820" y="9866"/>
                  <a:pt x="19800" y="9866"/>
                  <a:pt x="19781" y="9869"/>
                </a:cubicBezTo>
                <a:cubicBezTo>
                  <a:pt x="19767" y="9871"/>
                  <a:pt x="19742" y="9883"/>
                  <a:pt x="19727" y="9878"/>
                </a:cubicBezTo>
                <a:cubicBezTo>
                  <a:pt x="19713" y="9874"/>
                  <a:pt x="19699" y="9860"/>
                  <a:pt x="19686" y="9853"/>
                </a:cubicBezTo>
                <a:cubicBezTo>
                  <a:pt x="19710" y="9848"/>
                  <a:pt x="19728" y="9846"/>
                  <a:pt x="19757" y="9845"/>
                </a:cubicBezTo>
                <a:cubicBezTo>
                  <a:pt x="19816" y="9843"/>
                  <a:pt x="19875" y="9843"/>
                  <a:pt x="19934" y="9841"/>
                </a:cubicBezTo>
                <a:cubicBezTo>
                  <a:pt x="19959" y="9840"/>
                  <a:pt x="19983" y="9839"/>
                  <a:pt x="20008" y="9836"/>
                </a:cubicBezTo>
                <a:cubicBezTo>
                  <a:pt x="20033" y="9833"/>
                  <a:pt x="20057" y="9830"/>
                  <a:pt x="20082" y="9828"/>
                </a:cubicBezTo>
                <a:cubicBezTo>
                  <a:pt x="20107" y="9826"/>
                  <a:pt x="20131" y="9823"/>
                  <a:pt x="20156" y="9819"/>
                </a:cubicBezTo>
                <a:cubicBezTo>
                  <a:pt x="20210" y="9811"/>
                  <a:pt x="20262" y="9805"/>
                  <a:pt x="20316" y="9810"/>
                </a:cubicBezTo>
                <a:cubicBezTo>
                  <a:pt x="20321" y="9811"/>
                  <a:pt x="20326" y="9812"/>
                  <a:pt x="20331" y="9813"/>
                </a:cubicBezTo>
                <a:cubicBezTo>
                  <a:pt x="20307" y="9814"/>
                  <a:pt x="20310" y="9813"/>
                  <a:pt x="20286" y="9813"/>
                </a:cubicBezTo>
                <a:cubicBezTo>
                  <a:pt x="20239" y="9813"/>
                  <a:pt x="20194" y="9807"/>
                  <a:pt x="20147" y="9803"/>
                </a:cubicBezTo>
                <a:cubicBezTo>
                  <a:pt x="20118" y="9801"/>
                  <a:pt x="20088" y="9796"/>
                  <a:pt x="20059" y="9795"/>
                </a:cubicBezTo>
                <a:cubicBezTo>
                  <a:pt x="20025" y="9793"/>
                  <a:pt x="19991" y="9797"/>
                  <a:pt x="19957" y="9795"/>
                </a:cubicBezTo>
                <a:cubicBezTo>
                  <a:pt x="19935" y="9794"/>
                  <a:pt x="19914" y="9791"/>
                  <a:pt x="19893" y="9791"/>
                </a:cubicBezTo>
                <a:cubicBezTo>
                  <a:pt x="19850" y="9790"/>
                  <a:pt x="19807" y="9791"/>
                  <a:pt x="19764" y="9795"/>
                </a:cubicBezTo>
                <a:cubicBezTo>
                  <a:pt x="19744" y="9797"/>
                  <a:pt x="19727" y="9803"/>
                  <a:pt x="19707" y="9807"/>
                </a:cubicBezTo>
                <a:cubicBezTo>
                  <a:pt x="19685" y="9812"/>
                  <a:pt x="19662" y="9817"/>
                  <a:pt x="19640" y="9817"/>
                </a:cubicBezTo>
                <a:cubicBezTo>
                  <a:pt x="19627" y="9814"/>
                  <a:pt x="19623" y="9813"/>
                  <a:pt x="19614" y="981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81880" y="3033720"/>
            <a:ext cx="587520" cy="22320"/>
          </a:xfrm>
          <a:custGeom>
            <a:avLst/>
            <a:gdLst/>
            <a:ahLst/>
            <a:rect l="l" t="t" r="r" b="b"/>
            <a:pathLst>
              <a:path w="1628" h="63">
                <a:moveTo>
                  <a:pt x="19484" y="10410"/>
                </a:moveTo>
                <a:cubicBezTo>
                  <a:pt x="19504" y="10418"/>
                  <a:pt x="19522" y="10428"/>
                  <a:pt x="19543" y="10435"/>
                </a:cubicBezTo>
                <a:cubicBezTo>
                  <a:pt x="19571" y="10444"/>
                  <a:pt x="19596" y="10446"/>
                  <a:pt x="19625" y="10444"/>
                </a:cubicBezTo>
                <a:cubicBezTo>
                  <a:pt x="19695" y="10440"/>
                  <a:pt x="19764" y="10422"/>
                  <a:pt x="19834" y="10418"/>
                </a:cubicBezTo>
                <a:cubicBezTo>
                  <a:pt x="19875" y="10416"/>
                  <a:pt x="19917" y="10420"/>
                  <a:pt x="19958" y="10420"/>
                </a:cubicBezTo>
                <a:cubicBezTo>
                  <a:pt x="19980" y="10420"/>
                  <a:pt x="20001" y="10420"/>
                  <a:pt x="20023" y="10418"/>
                </a:cubicBezTo>
                <a:cubicBezTo>
                  <a:pt x="20060" y="10415"/>
                  <a:pt x="20098" y="10412"/>
                  <a:pt x="20135" y="10409"/>
                </a:cubicBezTo>
                <a:cubicBezTo>
                  <a:pt x="20155" y="10407"/>
                  <a:pt x="20176" y="10405"/>
                  <a:pt x="20196" y="10404"/>
                </a:cubicBezTo>
                <a:cubicBezTo>
                  <a:pt x="20227" y="10402"/>
                  <a:pt x="20260" y="10399"/>
                  <a:pt x="20291" y="10398"/>
                </a:cubicBezTo>
                <a:cubicBezTo>
                  <a:pt x="20317" y="10398"/>
                  <a:pt x="20346" y="10399"/>
                  <a:pt x="20372" y="10400"/>
                </a:cubicBezTo>
                <a:cubicBezTo>
                  <a:pt x="20401" y="10401"/>
                  <a:pt x="20429" y="10399"/>
                  <a:pt x="20458" y="10400"/>
                </a:cubicBezTo>
                <a:cubicBezTo>
                  <a:pt x="20486" y="10401"/>
                  <a:pt x="20516" y="10402"/>
                  <a:pt x="20545" y="10404"/>
                </a:cubicBezTo>
                <a:cubicBezTo>
                  <a:pt x="20566" y="10405"/>
                  <a:pt x="20582" y="10404"/>
                  <a:pt x="20603" y="10403"/>
                </a:cubicBezTo>
                <a:cubicBezTo>
                  <a:pt x="20632" y="10401"/>
                  <a:pt x="20662" y="10401"/>
                  <a:pt x="20691" y="10400"/>
                </a:cubicBezTo>
                <a:cubicBezTo>
                  <a:pt x="20716" y="10399"/>
                  <a:pt x="20742" y="10396"/>
                  <a:pt x="20767" y="10397"/>
                </a:cubicBezTo>
                <a:cubicBezTo>
                  <a:pt x="20798" y="10398"/>
                  <a:pt x="20829" y="10401"/>
                  <a:pt x="20860" y="10401"/>
                </a:cubicBezTo>
                <a:cubicBezTo>
                  <a:pt x="20896" y="10401"/>
                  <a:pt x="20932" y="10403"/>
                  <a:pt x="20968" y="10403"/>
                </a:cubicBezTo>
                <a:cubicBezTo>
                  <a:pt x="20989" y="10403"/>
                  <a:pt x="21011" y="10403"/>
                  <a:pt x="21031" y="10400"/>
                </a:cubicBezTo>
                <a:cubicBezTo>
                  <a:pt x="21058" y="10396"/>
                  <a:pt x="21084" y="10389"/>
                  <a:pt x="21111" y="1038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13560" y="2989440"/>
            <a:ext cx="561960" cy="339480"/>
          </a:xfrm>
          <a:custGeom>
            <a:avLst/>
            <a:gdLst/>
            <a:ahLst/>
            <a:rect l="l" t="t" r="r" b="b"/>
            <a:pathLst>
              <a:path w="1564" h="943">
                <a:moveTo>
                  <a:pt x="19569" y="11198"/>
                </a:moveTo>
                <a:cubicBezTo>
                  <a:pt x="19592" y="11200"/>
                  <a:pt x="19617" y="11205"/>
                  <a:pt x="19640" y="11205"/>
                </a:cubicBezTo>
                <a:cubicBezTo>
                  <a:pt x="19749" y="11205"/>
                  <a:pt x="19859" y="11191"/>
                  <a:pt x="19967" y="11184"/>
                </a:cubicBezTo>
                <a:cubicBezTo>
                  <a:pt x="20053" y="11178"/>
                  <a:pt x="20138" y="11175"/>
                  <a:pt x="20224" y="11173"/>
                </a:cubicBezTo>
                <a:cubicBezTo>
                  <a:pt x="20295" y="11171"/>
                  <a:pt x="20366" y="11170"/>
                  <a:pt x="20437" y="11174"/>
                </a:cubicBezTo>
                <a:cubicBezTo>
                  <a:pt x="20463" y="11175"/>
                  <a:pt x="20488" y="11181"/>
                  <a:pt x="20514" y="11183"/>
                </a:cubicBezTo>
                <a:cubicBezTo>
                  <a:pt x="20536" y="11185"/>
                  <a:pt x="20558" y="11185"/>
                  <a:pt x="20580" y="11186"/>
                </a:cubicBezTo>
                <a:cubicBezTo>
                  <a:pt x="20610" y="11187"/>
                  <a:pt x="20639" y="11183"/>
                  <a:pt x="20669" y="11183"/>
                </a:cubicBezTo>
                <a:cubicBezTo>
                  <a:pt x="20701" y="11183"/>
                  <a:pt x="20734" y="11185"/>
                  <a:pt x="20767" y="11187"/>
                </a:cubicBezTo>
                <a:cubicBezTo>
                  <a:pt x="20805" y="11189"/>
                  <a:pt x="20843" y="11190"/>
                  <a:pt x="20882" y="11189"/>
                </a:cubicBezTo>
                <a:cubicBezTo>
                  <a:pt x="20910" y="11188"/>
                  <a:pt x="20941" y="11180"/>
                  <a:pt x="20969" y="11181"/>
                </a:cubicBezTo>
                <a:cubicBezTo>
                  <a:pt x="20997" y="11182"/>
                  <a:pt x="21026" y="11193"/>
                  <a:pt x="21055" y="11192"/>
                </a:cubicBezTo>
                <a:cubicBezTo>
                  <a:pt x="21066" y="11191"/>
                  <a:pt x="21100" y="11195"/>
                  <a:pt x="21110" y="11187"/>
                </a:cubicBezTo>
                <a:cubicBezTo>
                  <a:pt x="21137" y="11165"/>
                  <a:pt x="21123" y="11173"/>
                  <a:pt x="21127" y="11136"/>
                </a:cubicBezTo>
                <a:cubicBezTo>
                  <a:pt x="21130" y="11113"/>
                  <a:pt x="21127" y="11097"/>
                  <a:pt x="21127" y="11074"/>
                </a:cubicBezTo>
                <a:cubicBezTo>
                  <a:pt x="21126" y="11028"/>
                  <a:pt x="21122" y="10988"/>
                  <a:pt x="21117" y="10943"/>
                </a:cubicBezTo>
                <a:cubicBezTo>
                  <a:pt x="21113" y="10909"/>
                  <a:pt x="21115" y="10876"/>
                  <a:pt x="21113" y="10842"/>
                </a:cubicBezTo>
                <a:cubicBezTo>
                  <a:pt x="21111" y="10821"/>
                  <a:pt x="21107" y="10802"/>
                  <a:pt x="21108" y="10780"/>
                </a:cubicBezTo>
                <a:cubicBezTo>
                  <a:pt x="21109" y="10760"/>
                  <a:pt x="21114" y="10741"/>
                  <a:pt x="21113" y="10721"/>
                </a:cubicBezTo>
                <a:cubicBezTo>
                  <a:pt x="21112" y="10698"/>
                  <a:pt x="21103" y="10675"/>
                  <a:pt x="21102" y="10652"/>
                </a:cubicBezTo>
                <a:cubicBezTo>
                  <a:pt x="21101" y="10630"/>
                  <a:pt x="21105" y="10608"/>
                  <a:pt x="21105" y="10586"/>
                </a:cubicBezTo>
                <a:cubicBezTo>
                  <a:pt x="21104" y="10508"/>
                  <a:pt x="21094" y="10430"/>
                  <a:pt x="21093" y="10353"/>
                </a:cubicBezTo>
                <a:cubicBezTo>
                  <a:pt x="21093" y="10322"/>
                  <a:pt x="21099" y="10294"/>
                  <a:pt x="21104" y="1026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10360" y="3021120"/>
            <a:ext cx="59040" cy="145800"/>
          </a:xfrm>
          <a:custGeom>
            <a:avLst/>
            <a:gdLst/>
            <a:ahLst/>
            <a:rect l="l" t="t" r="r" b="b"/>
            <a:pathLst>
              <a:path w="162" h="407">
                <a:moveTo>
                  <a:pt x="20966" y="10462"/>
                </a:moveTo>
                <a:cubicBezTo>
                  <a:pt x="20947" y="10442"/>
                  <a:pt x="20978" y="10449"/>
                  <a:pt x="21003" y="10443"/>
                </a:cubicBezTo>
                <a:cubicBezTo>
                  <a:pt x="21020" y="10439"/>
                  <a:pt x="21052" y="10431"/>
                  <a:pt x="21065" y="10419"/>
                </a:cubicBezTo>
                <a:cubicBezTo>
                  <a:pt x="21078" y="10407"/>
                  <a:pt x="21096" y="10376"/>
                  <a:pt x="21107" y="10361"/>
                </a:cubicBezTo>
                <a:cubicBezTo>
                  <a:pt x="21109" y="10357"/>
                  <a:pt x="21111" y="10352"/>
                  <a:pt x="21113" y="10348"/>
                </a:cubicBezTo>
                <a:cubicBezTo>
                  <a:pt x="21106" y="10371"/>
                  <a:pt x="21101" y="10392"/>
                  <a:pt x="21099" y="10416"/>
                </a:cubicBezTo>
                <a:cubicBezTo>
                  <a:pt x="21097" y="10443"/>
                  <a:pt x="21094" y="10470"/>
                  <a:pt x="21091" y="10497"/>
                </a:cubicBezTo>
                <a:cubicBezTo>
                  <a:pt x="21087" y="10534"/>
                  <a:pt x="21087" y="10572"/>
                  <a:pt x="21083" y="10609"/>
                </a:cubicBezTo>
                <a:cubicBezTo>
                  <a:pt x="21079" y="10642"/>
                  <a:pt x="21075" y="10679"/>
                  <a:pt x="21074" y="10712"/>
                </a:cubicBezTo>
                <a:cubicBezTo>
                  <a:pt x="21076" y="10735"/>
                  <a:pt x="21077" y="10740"/>
                  <a:pt x="21074" y="1075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88400" y="3036960"/>
            <a:ext cx="85680" cy="90360"/>
          </a:xfrm>
          <a:custGeom>
            <a:avLst/>
            <a:gdLst/>
            <a:ahLst/>
            <a:rect l="l" t="t" r="r" b="b"/>
            <a:pathLst>
              <a:path w="237" h="252">
                <a:moveTo>
                  <a:pt x="20891" y="10522"/>
                </a:moveTo>
                <a:cubicBezTo>
                  <a:pt x="20914" y="10518"/>
                  <a:pt x="20939" y="10517"/>
                  <a:pt x="20962" y="10512"/>
                </a:cubicBezTo>
                <a:cubicBezTo>
                  <a:pt x="20987" y="10506"/>
                  <a:pt x="21008" y="10495"/>
                  <a:pt x="21034" y="10493"/>
                </a:cubicBezTo>
                <a:cubicBezTo>
                  <a:pt x="21054" y="10492"/>
                  <a:pt x="21048" y="10470"/>
                  <a:pt x="21059" y="10450"/>
                </a:cubicBezTo>
                <a:cubicBezTo>
                  <a:pt x="21070" y="10430"/>
                  <a:pt x="21079" y="10414"/>
                  <a:pt x="21086" y="10392"/>
                </a:cubicBezTo>
                <a:cubicBezTo>
                  <a:pt x="21093" y="10417"/>
                  <a:pt x="21094" y="10442"/>
                  <a:pt x="21095" y="10468"/>
                </a:cubicBezTo>
                <a:cubicBezTo>
                  <a:pt x="21096" y="10492"/>
                  <a:pt x="21098" y="10516"/>
                  <a:pt x="21101" y="10540"/>
                </a:cubicBezTo>
                <a:cubicBezTo>
                  <a:pt x="21098" y="10511"/>
                  <a:pt x="21094" y="10484"/>
                  <a:pt x="21089" y="10456"/>
                </a:cubicBezTo>
                <a:cubicBezTo>
                  <a:pt x="21088" y="10449"/>
                  <a:pt x="21086" y="10442"/>
                  <a:pt x="21085" y="10435"/>
                </a:cubicBezTo>
                <a:cubicBezTo>
                  <a:pt x="21087" y="10390"/>
                  <a:pt x="21089" y="10465"/>
                  <a:pt x="21089" y="10471"/>
                </a:cubicBezTo>
                <a:cubicBezTo>
                  <a:pt x="21090" y="10488"/>
                  <a:pt x="21092" y="10504"/>
                  <a:pt x="21092" y="10521"/>
                </a:cubicBezTo>
                <a:cubicBezTo>
                  <a:pt x="21097" y="10495"/>
                  <a:pt x="21099" y="10469"/>
                  <a:pt x="21101" y="10443"/>
                </a:cubicBezTo>
                <a:cubicBezTo>
                  <a:pt x="21105" y="10395"/>
                  <a:pt x="21113" y="10464"/>
                  <a:pt x="21114" y="10475"/>
                </a:cubicBezTo>
                <a:cubicBezTo>
                  <a:pt x="21116" y="10497"/>
                  <a:pt x="21114" y="10519"/>
                  <a:pt x="21114" y="10541"/>
                </a:cubicBezTo>
                <a:cubicBezTo>
                  <a:pt x="21114" y="10564"/>
                  <a:pt x="21113" y="10588"/>
                  <a:pt x="21113" y="10611"/>
                </a:cubicBezTo>
                <a:cubicBezTo>
                  <a:pt x="21119" y="10583"/>
                  <a:pt x="21123" y="10556"/>
                  <a:pt x="21123" y="10527"/>
                </a:cubicBezTo>
                <a:cubicBezTo>
                  <a:pt x="21123" y="10501"/>
                  <a:pt x="21127" y="10476"/>
                  <a:pt x="21125" y="10450"/>
                </a:cubicBezTo>
                <a:cubicBezTo>
                  <a:pt x="21124" y="10432"/>
                  <a:pt x="21124" y="10416"/>
                  <a:pt x="21122" y="10398"/>
                </a:cubicBezTo>
                <a:cubicBezTo>
                  <a:pt x="21120" y="10422"/>
                  <a:pt x="21118" y="10447"/>
                  <a:pt x="21116" y="10471"/>
                </a:cubicBezTo>
                <a:cubicBezTo>
                  <a:pt x="21114" y="10495"/>
                  <a:pt x="21114" y="10502"/>
                  <a:pt x="21113" y="10518"/>
                </a:cubicBezTo>
                <a:cubicBezTo>
                  <a:pt x="21119" y="10492"/>
                  <a:pt x="21121" y="10469"/>
                  <a:pt x="21123" y="10443"/>
                </a:cubicBezTo>
                <a:cubicBezTo>
                  <a:pt x="21124" y="10427"/>
                  <a:pt x="21126" y="10411"/>
                  <a:pt x="21127" y="10395"/>
                </a:cubicBezTo>
                <a:cubicBezTo>
                  <a:pt x="21124" y="10420"/>
                  <a:pt x="21124" y="10444"/>
                  <a:pt x="21122" y="10469"/>
                </a:cubicBezTo>
                <a:cubicBezTo>
                  <a:pt x="21120" y="10490"/>
                  <a:pt x="21118" y="10510"/>
                  <a:pt x="21117" y="10531"/>
                </a:cubicBezTo>
                <a:cubicBezTo>
                  <a:pt x="21116" y="10553"/>
                  <a:pt x="21116" y="10574"/>
                  <a:pt x="21113" y="10596"/>
                </a:cubicBezTo>
                <a:cubicBezTo>
                  <a:pt x="21111" y="10612"/>
                  <a:pt x="21111" y="10627"/>
                  <a:pt x="21111" y="1064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73960" y="3405240"/>
            <a:ext cx="47520" cy="19080"/>
          </a:xfrm>
          <a:custGeom>
            <a:avLst/>
            <a:gdLst/>
            <a:ahLst/>
            <a:rect l="l" t="t" r="r" b="b"/>
            <a:pathLst>
              <a:path w="133" h="54">
                <a:moveTo>
                  <a:pt x="19504" y="11465"/>
                </a:moveTo>
                <a:cubicBezTo>
                  <a:pt x="19514" y="11465"/>
                  <a:pt x="19579" y="11454"/>
                  <a:pt x="19543" y="11453"/>
                </a:cubicBezTo>
                <a:cubicBezTo>
                  <a:pt x="19525" y="11453"/>
                  <a:pt x="19506" y="11456"/>
                  <a:pt x="19488" y="11457"/>
                </a:cubicBezTo>
                <a:cubicBezTo>
                  <a:pt x="19456" y="11450"/>
                  <a:pt x="19513" y="11451"/>
                  <a:pt x="19522" y="11450"/>
                </a:cubicBezTo>
                <a:cubicBezTo>
                  <a:pt x="19527" y="11450"/>
                  <a:pt x="19532" y="11450"/>
                  <a:pt x="19537" y="11450"/>
                </a:cubicBezTo>
                <a:cubicBezTo>
                  <a:pt x="19531" y="11452"/>
                  <a:pt x="19478" y="11465"/>
                  <a:pt x="19476" y="11451"/>
                </a:cubicBezTo>
                <a:cubicBezTo>
                  <a:pt x="19474" y="11433"/>
                  <a:pt x="19467" y="11442"/>
                  <a:pt x="19464" y="11460"/>
                </a:cubicBezTo>
                <a:cubicBezTo>
                  <a:pt x="19487" y="11444"/>
                  <a:pt x="19508" y="11435"/>
                  <a:pt x="19535" y="11426"/>
                </a:cubicBezTo>
                <a:cubicBezTo>
                  <a:pt x="19556" y="11419"/>
                  <a:pt x="19571" y="11417"/>
                  <a:pt x="19593" y="1141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From either the home page or the navigation bar at the right, click on your course page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15835" t="7249" r="19339" b="9093"/>
          <a:stretch/>
        </p:blipFill>
        <p:spPr>
          <a:xfrm>
            <a:off x="914400" y="1219320"/>
            <a:ext cx="7543800" cy="5638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-2590920" y="2895480"/>
            <a:ext cx="1447920" cy="2895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497720" y="2825640"/>
            <a:ext cx="574560" cy="25560"/>
          </a:xfrm>
          <a:custGeom>
            <a:avLst/>
            <a:gdLst/>
            <a:ahLst/>
            <a:rect l="l" t="t" r="r" b="b"/>
            <a:pathLst>
              <a:path w="1597" h="68">
                <a:moveTo>
                  <a:pt x="19526" y="9808"/>
                </a:moveTo>
                <a:cubicBezTo>
                  <a:pt x="19540" y="9821"/>
                  <a:pt x="19545" y="9831"/>
                  <a:pt x="19574" y="9838"/>
                </a:cubicBezTo>
                <a:cubicBezTo>
                  <a:pt x="19626" y="9851"/>
                  <a:pt x="19682" y="9851"/>
                  <a:pt x="19735" y="9857"/>
                </a:cubicBezTo>
                <a:cubicBezTo>
                  <a:pt x="19759" y="9860"/>
                  <a:pt x="19783" y="9864"/>
                  <a:pt x="19807" y="9867"/>
                </a:cubicBezTo>
                <a:cubicBezTo>
                  <a:pt x="19847" y="9873"/>
                  <a:pt x="19887" y="9876"/>
                  <a:pt x="19927" y="9873"/>
                </a:cubicBezTo>
                <a:cubicBezTo>
                  <a:pt x="19954" y="9871"/>
                  <a:pt x="19980" y="9869"/>
                  <a:pt x="20007" y="9867"/>
                </a:cubicBezTo>
                <a:cubicBezTo>
                  <a:pt x="20029" y="9865"/>
                  <a:pt x="20050" y="9863"/>
                  <a:pt x="20072" y="9863"/>
                </a:cubicBezTo>
                <a:cubicBezTo>
                  <a:pt x="20097" y="9863"/>
                  <a:pt x="20114" y="9860"/>
                  <a:pt x="20138" y="9856"/>
                </a:cubicBezTo>
                <a:cubicBezTo>
                  <a:pt x="20164" y="9852"/>
                  <a:pt x="20192" y="9844"/>
                  <a:pt x="20218" y="9842"/>
                </a:cubicBezTo>
                <a:cubicBezTo>
                  <a:pt x="20237" y="9840"/>
                  <a:pt x="20260" y="9840"/>
                  <a:pt x="20280" y="9839"/>
                </a:cubicBezTo>
                <a:cubicBezTo>
                  <a:pt x="20348" y="9837"/>
                  <a:pt x="20413" y="9852"/>
                  <a:pt x="20480" y="9850"/>
                </a:cubicBezTo>
                <a:cubicBezTo>
                  <a:pt x="20507" y="9849"/>
                  <a:pt x="20535" y="9847"/>
                  <a:pt x="20563" y="9847"/>
                </a:cubicBezTo>
                <a:cubicBezTo>
                  <a:pt x="20586" y="9847"/>
                  <a:pt x="20609" y="9846"/>
                  <a:pt x="20632" y="9847"/>
                </a:cubicBezTo>
                <a:cubicBezTo>
                  <a:pt x="20667" y="9849"/>
                  <a:pt x="20702" y="9854"/>
                  <a:pt x="20737" y="9857"/>
                </a:cubicBezTo>
                <a:cubicBezTo>
                  <a:pt x="20767" y="9860"/>
                  <a:pt x="20800" y="9863"/>
                  <a:pt x="20830" y="9862"/>
                </a:cubicBezTo>
                <a:cubicBezTo>
                  <a:pt x="20852" y="9862"/>
                  <a:pt x="20870" y="9862"/>
                  <a:pt x="20892" y="9864"/>
                </a:cubicBezTo>
                <a:cubicBezTo>
                  <a:pt x="20918" y="9867"/>
                  <a:pt x="20944" y="9870"/>
                  <a:pt x="20971" y="9870"/>
                </a:cubicBezTo>
                <a:cubicBezTo>
                  <a:pt x="21001" y="9870"/>
                  <a:pt x="21032" y="9869"/>
                  <a:pt x="21062" y="9867"/>
                </a:cubicBezTo>
                <a:cubicBezTo>
                  <a:pt x="21072" y="9866"/>
                  <a:pt x="21115" y="9868"/>
                  <a:pt x="21122" y="9864"/>
                </a:cubicBezTo>
                <a:cubicBezTo>
                  <a:pt x="21122" y="9859"/>
                  <a:pt x="21122" y="9855"/>
                  <a:pt x="21122" y="985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493040" y="2819520"/>
            <a:ext cx="574560" cy="31680"/>
          </a:xfrm>
          <a:custGeom>
            <a:avLst/>
            <a:gdLst/>
            <a:ahLst/>
            <a:rect l="l" t="t" r="r" b="b"/>
            <a:pathLst>
              <a:path w="1595" h="88">
                <a:moveTo>
                  <a:pt x="19513" y="9847"/>
                </a:moveTo>
                <a:cubicBezTo>
                  <a:pt x="19534" y="9835"/>
                  <a:pt x="19550" y="9822"/>
                  <a:pt x="19574" y="9816"/>
                </a:cubicBezTo>
                <a:cubicBezTo>
                  <a:pt x="19615" y="9806"/>
                  <a:pt x="19666" y="9826"/>
                  <a:pt x="19707" y="9831"/>
                </a:cubicBezTo>
                <a:cubicBezTo>
                  <a:pt x="19731" y="9834"/>
                  <a:pt x="19755" y="9837"/>
                  <a:pt x="19779" y="9838"/>
                </a:cubicBezTo>
                <a:cubicBezTo>
                  <a:pt x="19807" y="9839"/>
                  <a:pt x="19833" y="9835"/>
                  <a:pt x="19861" y="9836"/>
                </a:cubicBezTo>
                <a:cubicBezTo>
                  <a:pt x="19899" y="9838"/>
                  <a:pt x="19936" y="9841"/>
                  <a:pt x="19974" y="9841"/>
                </a:cubicBezTo>
                <a:cubicBezTo>
                  <a:pt x="20001" y="9841"/>
                  <a:pt x="20027" y="9838"/>
                  <a:pt x="20054" y="9838"/>
                </a:cubicBezTo>
                <a:cubicBezTo>
                  <a:pt x="20081" y="9838"/>
                  <a:pt x="20108" y="9842"/>
                  <a:pt x="20135" y="9842"/>
                </a:cubicBezTo>
                <a:cubicBezTo>
                  <a:pt x="20212" y="9843"/>
                  <a:pt x="20289" y="9831"/>
                  <a:pt x="20365" y="9834"/>
                </a:cubicBezTo>
                <a:cubicBezTo>
                  <a:pt x="20394" y="9835"/>
                  <a:pt x="20423" y="9841"/>
                  <a:pt x="20452" y="9841"/>
                </a:cubicBezTo>
                <a:cubicBezTo>
                  <a:pt x="20472" y="9841"/>
                  <a:pt x="20492" y="9837"/>
                  <a:pt x="20512" y="9838"/>
                </a:cubicBezTo>
                <a:cubicBezTo>
                  <a:pt x="20533" y="9839"/>
                  <a:pt x="20555" y="9840"/>
                  <a:pt x="20576" y="9841"/>
                </a:cubicBezTo>
                <a:cubicBezTo>
                  <a:pt x="20598" y="9842"/>
                  <a:pt x="20621" y="9846"/>
                  <a:pt x="20643" y="9847"/>
                </a:cubicBezTo>
                <a:cubicBezTo>
                  <a:pt x="20665" y="9848"/>
                  <a:pt x="20686" y="9850"/>
                  <a:pt x="20709" y="9851"/>
                </a:cubicBezTo>
                <a:cubicBezTo>
                  <a:pt x="20739" y="9852"/>
                  <a:pt x="20770" y="9849"/>
                  <a:pt x="20799" y="9850"/>
                </a:cubicBezTo>
                <a:cubicBezTo>
                  <a:pt x="20821" y="9851"/>
                  <a:pt x="20844" y="9855"/>
                  <a:pt x="20866" y="9853"/>
                </a:cubicBezTo>
                <a:cubicBezTo>
                  <a:pt x="20886" y="9851"/>
                  <a:pt x="20909" y="9848"/>
                  <a:pt x="20929" y="9844"/>
                </a:cubicBezTo>
                <a:cubicBezTo>
                  <a:pt x="20951" y="9839"/>
                  <a:pt x="20967" y="9834"/>
                  <a:pt x="20990" y="9835"/>
                </a:cubicBezTo>
                <a:cubicBezTo>
                  <a:pt x="21011" y="9836"/>
                  <a:pt x="21032" y="9838"/>
                  <a:pt x="21052" y="9838"/>
                </a:cubicBezTo>
                <a:cubicBezTo>
                  <a:pt x="21071" y="9838"/>
                  <a:pt x="21089" y="9838"/>
                  <a:pt x="21107" y="9838"/>
                </a:cubicBezTo>
                <a:cubicBezTo>
                  <a:pt x="21082" y="9837"/>
                  <a:pt x="21063" y="9838"/>
                  <a:pt x="21036" y="9841"/>
                </a:cubicBezTo>
                <a:cubicBezTo>
                  <a:pt x="21014" y="9843"/>
                  <a:pt x="20991" y="9844"/>
                  <a:pt x="20969" y="9845"/>
                </a:cubicBezTo>
                <a:cubicBezTo>
                  <a:pt x="20949" y="9846"/>
                  <a:pt x="20930" y="9850"/>
                  <a:pt x="20910" y="9850"/>
                </a:cubicBezTo>
                <a:cubicBezTo>
                  <a:pt x="20890" y="9850"/>
                  <a:pt x="20868" y="9846"/>
                  <a:pt x="20848" y="9845"/>
                </a:cubicBezTo>
                <a:cubicBezTo>
                  <a:pt x="20789" y="9842"/>
                  <a:pt x="20733" y="9830"/>
                  <a:pt x="20674" y="9834"/>
                </a:cubicBezTo>
                <a:cubicBezTo>
                  <a:pt x="20649" y="9836"/>
                  <a:pt x="20625" y="9840"/>
                  <a:pt x="20600" y="9841"/>
                </a:cubicBezTo>
                <a:cubicBezTo>
                  <a:pt x="20576" y="9842"/>
                  <a:pt x="20553" y="9842"/>
                  <a:pt x="20529" y="9845"/>
                </a:cubicBezTo>
                <a:cubicBezTo>
                  <a:pt x="20499" y="9849"/>
                  <a:pt x="20469" y="9852"/>
                  <a:pt x="20439" y="9856"/>
                </a:cubicBezTo>
                <a:cubicBezTo>
                  <a:pt x="20413" y="9859"/>
                  <a:pt x="20387" y="9863"/>
                  <a:pt x="20360" y="9863"/>
                </a:cubicBezTo>
                <a:cubicBezTo>
                  <a:pt x="20329" y="9862"/>
                  <a:pt x="20298" y="9859"/>
                  <a:pt x="20267" y="9859"/>
                </a:cubicBezTo>
                <a:cubicBezTo>
                  <a:pt x="20230" y="9859"/>
                  <a:pt x="20192" y="9862"/>
                  <a:pt x="20155" y="9862"/>
                </a:cubicBezTo>
                <a:cubicBezTo>
                  <a:pt x="20124" y="9862"/>
                  <a:pt x="20094" y="9858"/>
                  <a:pt x="20063" y="9857"/>
                </a:cubicBezTo>
                <a:cubicBezTo>
                  <a:pt x="20036" y="9856"/>
                  <a:pt x="20010" y="9862"/>
                  <a:pt x="19983" y="9863"/>
                </a:cubicBezTo>
                <a:cubicBezTo>
                  <a:pt x="19953" y="9864"/>
                  <a:pt x="19924" y="9859"/>
                  <a:pt x="19895" y="9860"/>
                </a:cubicBezTo>
                <a:cubicBezTo>
                  <a:pt x="19877" y="9861"/>
                  <a:pt x="19858" y="9861"/>
                  <a:pt x="19840" y="9863"/>
                </a:cubicBezTo>
                <a:cubicBezTo>
                  <a:pt x="19820" y="9866"/>
                  <a:pt x="19800" y="9866"/>
                  <a:pt x="19781" y="9869"/>
                </a:cubicBezTo>
                <a:cubicBezTo>
                  <a:pt x="19767" y="9871"/>
                  <a:pt x="19742" y="9883"/>
                  <a:pt x="19727" y="9878"/>
                </a:cubicBezTo>
                <a:cubicBezTo>
                  <a:pt x="19713" y="9874"/>
                  <a:pt x="19699" y="9860"/>
                  <a:pt x="19686" y="9853"/>
                </a:cubicBezTo>
                <a:cubicBezTo>
                  <a:pt x="19710" y="9848"/>
                  <a:pt x="19728" y="9846"/>
                  <a:pt x="19757" y="9845"/>
                </a:cubicBezTo>
                <a:cubicBezTo>
                  <a:pt x="19816" y="9843"/>
                  <a:pt x="19875" y="9843"/>
                  <a:pt x="19934" y="9841"/>
                </a:cubicBezTo>
                <a:cubicBezTo>
                  <a:pt x="19959" y="9840"/>
                  <a:pt x="19983" y="9839"/>
                  <a:pt x="20008" y="9836"/>
                </a:cubicBezTo>
                <a:cubicBezTo>
                  <a:pt x="20033" y="9833"/>
                  <a:pt x="20057" y="9830"/>
                  <a:pt x="20082" y="9828"/>
                </a:cubicBezTo>
                <a:cubicBezTo>
                  <a:pt x="20107" y="9826"/>
                  <a:pt x="20131" y="9823"/>
                  <a:pt x="20156" y="9819"/>
                </a:cubicBezTo>
                <a:cubicBezTo>
                  <a:pt x="20210" y="9811"/>
                  <a:pt x="20262" y="9805"/>
                  <a:pt x="20316" y="9810"/>
                </a:cubicBezTo>
                <a:cubicBezTo>
                  <a:pt x="20321" y="9811"/>
                  <a:pt x="20326" y="9812"/>
                  <a:pt x="20331" y="9813"/>
                </a:cubicBezTo>
                <a:cubicBezTo>
                  <a:pt x="20307" y="9814"/>
                  <a:pt x="20310" y="9813"/>
                  <a:pt x="20286" y="9813"/>
                </a:cubicBezTo>
                <a:cubicBezTo>
                  <a:pt x="20239" y="9813"/>
                  <a:pt x="20194" y="9807"/>
                  <a:pt x="20147" y="9803"/>
                </a:cubicBezTo>
                <a:cubicBezTo>
                  <a:pt x="20118" y="9801"/>
                  <a:pt x="20088" y="9796"/>
                  <a:pt x="20059" y="9795"/>
                </a:cubicBezTo>
                <a:cubicBezTo>
                  <a:pt x="20025" y="9793"/>
                  <a:pt x="19991" y="9797"/>
                  <a:pt x="19957" y="9795"/>
                </a:cubicBezTo>
                <a:cubicBezTo>
                  <a:pt x="19935" y="9794"/>
                  <a:pt x="19914" y="9791"/>
                  <a:pt x="19893" y="9791"/>
                </a:cubicBezTo>
                <a:cubicBezTo>
                  <a:pt x="19850" y="9790"/>
                  <a:pt x="19807" y="9791"/>
                  <a:pt x="19764" y="9795"/>
                </a:cubicBezTo>
                <a:cubicBezTo>
                  <a:pt x="19744" y="9797"/>
                  <a:pt x="19727" y="9803"/>
                  <a:pt x="19707" y="9807"/>
                </a:cubicBezTo>
                <a:cubicBezTo>
                  <a:pt x="19685" y="9812"/>
                  <a:pt x="19662" y="9817"/>
                  <a:pt x="19640" y="9817"/>
                </a:cubicBezTo>
                <a:cubicBezTo>
                  <a:pt x="19627" y="9814"/>
                  <a:pt x="19623" y="9813"/>
                  <a:pt x="19614" y="981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6288120"/>
            <a:ext cx="1938240" cy="36360"/>
          </a:xfrm>
          <a:custGeom>
            <a:avLst/>
            <a:gdLst/>
            <a:ahLst/>
            <a:rect l="l" t="t" r="r" b="b"/>
            <a:pathLst>
              <a:path w="5385" h="103">
                <a:moveTo>
                  <a:pt x="10037" y="16982"/>
                </a:moveTo>
                <a:cubicBezTo>
                  <a:pt x="10033" y="16977"/>
                  <a:pt x="10028" y="16973"/>
                  <a:pt x="10024" y="16968"/>
                </a:cubicBezTo>
                <a:cubicBezTo>
                  <a:pt x="10067" y="16975"/>
                  <a:pt x="10098" y="16990"/>
                  <a:pt x="10151" y="16988"/>
                </a:cubicBezTo>
                <a:cubicBezTo>
                  <a:pt x="10197" y="16986"/>
                  <a:pt x="10241" y="16980"/>
                  <a:pt x="10288" y="16980"/>
                </a:cubicBezTo>
                <a:cubicBezTo>
                  <a:pt x="10387" y="16981"/>
                  <a:pt x="10484" y="16984"/>
                  <a:pt x="10581" y="16993"/>
                </a:cubicBezTo>
                <a:cubicBezTo>
                  <a:pt x="10652" y="17000"/>
                  <a:pt x="10718" y="17020"/>
                  <a:pt x="10788" y="17030"/>
                </a:cubicBezTo>
                <a:cubicBezTo>
                  <a:pt x="10833" y="17036"/>
                  <a:pt x="10880" y="17039"/>
                  <a:pt x="10925" y="17042"/>
                </a:cubicBezTo>
                <a:cubicBezTo>
                  <a:pt x="11083" y="17051"/>
                  <a:pt x="11238" y="17057"/>
                  <a:pt x="11394" y="17035"/>
                </a:cubicBezTo>
                <a:cubicBezTo>
                  <a:pt x="11417" y="17032"/>
                  <a:pt x="11439" y="17027"/>
                  <a:pt x="11462" y="17024"/>
                </a:cubicBezTo>
                <a:cubicBezTo>
                  <a:pt x="11550" y="17014"/>
                  <a:pt x="11639" y="17020"/>
                  <a:pt x="11728" y="17023"/>
                </a:cubicBezTo>
                <a:cubicBezTo>
                  <a:pt x="11811" y="17026"/>
                  <a:pt x="11893" y="17031"/>
                  <a:pt x="11976" y="17030"/>
                </a:cubicBezTo>
                <a:cubicBezTo>
                  <a:pt x="12030" y="17029"/>
                  <a:pt x="12085" y="17035"/>
                  <a:pt x="12138" y="17032"/>
                </a:cubicBezTo>
                <a:cubicBezTo>
                  <a:pt x="12265" y="17024"/>
                  <a:pt x="12386" y="17036"/>
                  <a:pt x="12513" y="17041"/>
                </a:cubicBezTo>
                <a:cubicBezTo>
                  <a:pt x="12685" y="17048"/>
                  <a:pt x="12856" y="17038"/>
                  <a:pt x="13028" y="17036"/>
                </a:cubicBezTo>
                <a:cubicBezTo>
                  <a:pt x="13163" y="17034"/>
                  <a:pt x="13294" y="17046"/>
                  <a:pt x="13428" y="17054"/>
                </a:cubicBezTo>
                <a:cubicBezTo>
                  <a:pt x="13472" y="17057"/>
                  <a:pt x="13514" y="17060"/>
                  <a:pt x="13558" y="17060"/>
                </a:cubicBezTo>
                <a:cubicBezTo>
                  <a:pt x="13695" y="17060"/>
                  <a:pt x="13830" y="17040"/>
                  <a:pt x="13966" y="17029"/>
                </a:cubicBezTo>
                <a:cubicBezTo>
                  <a:pt x="14062" y="17021"/>
                  <a:pt x="14161" y="17008"/>
                  <a:pt x="14258" y="17010"/>
                </a:cubicBezTo>
                <a:cubicBezTo>
                  <a:pt x="14361" y="17012"/>
                  <a:pt x="14462" y="17033"/>
                  <a:pt x="14564" y="17050"/>
                </a:cubicBezTo>
                <a:cubicBezTo>
                  <a:pt x="14644" y="17063"/>
                  <a:pt x="14718" y="17066"/>
                  <a:pt x="14799" y="17064"/>
                </a:cubicBezTo>
                <a:cubicBezTo>
                  <a:pt x="14839" y="17063"/>
                  <a:pt x="14876" y="17064"/>
                  <a:pt x="14915" y="17060"/>
                </a:cubicBezTo>
                <a:cubicBezTo>
                  <a:pt x="15013" y="17050"/>
                  <a:pt x="15108" y="17047"/>
                  <a:pt x="15205" y="17038"/>
                </a:cubicBezTo>
                <a:cubicBezTo>
                  <a:pt x="15258" y="17033"/>
                  <a:pt x="15307" y="17019"/>
                  <a:pt x="15359" y="17013"/>
                </a:cubicBezTo>
                <a:cubicBezTo>
                  <a:pt x="15378" y="17011"/>
                  <a:pt x="15389" y="17032"/>
                  <a:pt x="15408" y="17027"/>
                </a:cubicBezTo>
                <a:cubicBezTo>
                  <a:pt x="15405" y="17022"/>
                  <a:pt x="15403" y="17018"/>
                  <a:pt x="15400" y="1701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Garamond"/>
              </a:rPr>
              <a:t>All forms and handouts from the beginning of the year can be accessed here.</a:t>
            </a:r>
            <a:endParaRPr b="1" lang="en-US" sz="3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Garamond"/>
              </a:rPr>
              <a:t>Helpful links to online math and calculator tutorials, AP Central, textbook resources, etc. can be found here, as well.</a:t>
            </a:r>
            <a:endParaRPr b="1" lang="en-US" sz="3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81200" y="5477040"/>
            <a:ext cx="920520" cy="25200"/>
          </a:xfrm>
          <a:custGeom>
            <a:avLst/>
            <a:gdLst/>
            <a:ahLst/>
            <a:rect l="l" t="t" r="r" b="b"/>
            <a:pathLst>
              <a:path w="2558" h="70">
                <a:moveTo>
                  <a:pt x="2236" y="15267"/>
                </a:moveTo>
                <a:cubicBezTo>
                  <a:pt x="2205" y="15270"/>
                  <a:pt x="2198" y="15270"/>
                  <a:pt x="2170" y="15281"/>
                </a:cubicBezTo>
                <a:cubicBezTo>
                  <a:pt x="2192" y="15271"/>
                  <a:pt x="2211" y="15255"/>
                  <a:pt x="2234" y="15248"/>
                </a:cubicBezTo>
                <a:cubicBezTo>
                  <a:pt x="2272" y="15237"/>
                  <a:pt x="2326" y="15226"/>
                  <a:pt x="2364" y="15225"/>
                </a:cubicBezTo>
                <a:cubicBezTo>
                  <a:pt x="2384" y="15224"/>
                  <a:pt x="2404" y="15231"/>
                  <a:pt x="2425" y="15230"/>
                </a:cubicBezTo>
                <a:cubicBezTo>
                  <a:pt x="2472" y="15229"/>
                  <a:pt x="2508" y="15236"/>
                  <a:pt x="2554" y="15241"/>
                </a:cubicBezTo>
                <a:cubicBezTo>
                  <a:pt x="2576" y="15243"/>
                  <a:pt x="2595" y="15242"/>
                  <a:pt x="2618" y="15245"/>
                </a:cubicBezTo>
                <a:cubicBezTo>
                  <a:pt x="2638" y="15248"/>
                  <a:pt x="2658" y="15251"/>
                  <a:pt x="2678" y="15253"/>
                </a:cubicBezTo>
                <a:cubicBezTo>
                  <a:pt x="2701" y="15256"/>
                  <a:pt x="2726" y="15257"/>
                  <a:pt x="2750" y="15259"/>
                </a:cubicBezTo>
                <a:cubicBezTo>
                  <a:pt x="2798" y="15263"/>
                  <a:pt x="2850" y="15269"/>
                  <a:pt x="2897" y="15266"/>
                </a:cubicBezTo>
                <a:cubicBezTo>
                  <a:pt x="2921" y="15265"/>
                  <a:pt x="2946" y="15259"/>
                  <a:pt x="2971" y="15259"/>
                </a:cubicBezTo>
                <a:cubicBezTo>
                  <a:pt x="3044" y="15258"/>
                  <a:pt x="3117" y="15259"/>
                  <a:pt x="3190" y="15258"/>
                </a:cubicBezTo>
                <a:cubicBezTo>
                  <a:pt x="3234" y="15257"/>
                  <a:pt x="3281" y="15256"/>
                  <a:pt x="3325" y="15253"/>
                </a:cubicBezTo>
                <a:cubicBezTo>
                  <a:pt x="3362" y="15250"/>
                  <a:pt x="3399" y="15248"/>
                  <a:pt x="3436" y="15247"/>
                </a:cubicBezTo>
                <a:cubicBezTo>
                  <a:pt x="3470" y="15246"/>
                  <a:pt x="3503" y="15244"/>
                  <a:pt x="3536" y="15242"/>
                </a:cubicBezTo>
                <a:cubicBezTo>
                  <a:pt x="3565" y="15240"/>
                  <a:pt x="3592" y="15237"/>
                  <a:pt x="3621" y="15236"/>
                </a:cubicBezTo>
                <a:cubicBezTo>
                  <a:pt x="3645" y="15235"/>
                  <a:pt x="3666" y="15232"/>
                  <a:pt x="3690" y="15230"/>
                </a:cubicBezTo>
                <a:cubicBezTo>
                  <a:pt x="3731" y="15226"/>
                  <a:pt x="3771" y="15223"/>
                  <a:pt x="3812" y="15222"/>
                </a:cubicBezTo>
                <a:cubicBezTo>
                  <a:pt x="3870" y="15221"/>
                  <a:pt x="3929" y="15220"/>
                  <a:pt x="3986" y="15219"/>
                </a:cubicBezTo>
                <a:cubicBezTo>
                  <a:pt x="4024" y="15218"/>
                  <a:pt x="4061" y="15214"/>
                  <a:pt x="4099" y="15214"/>
                </a:cubicBezTo>
                <a:cubicBezTo>
                  <a:pt x="4132" y="15214"/>
                  <a:pt x="4166" y="15212"/>
                  <a:pt x="4199" y="15212"/>
                </a:cubicBezTo>
                <a:cubicBezTo>
                  <a:pt x="4235" y="15212"/>
                  <a:pt x="4269" y="15212"/>
                  <a:pt x="4305" y="15212"/>
                </a:cubicBezTo>
                <a:cubicBezTo>
                  <a:pt x="4331" y="15212"/>
                  <a:pt x="4356" y="15213"/>
                  <a:pt x="4381" y="15214"/>
                </a:cubicBezTo>
                <a:cubicBezTo>
                  <a:pt x="4414" y="15215"/>
                  <a:pt x="4446" y="15221"/>
                  <a:pt x="4478" y="15222"/>
                </a:cubicBezTo>
                <a:cubicBezTo>
                  <a:pt x="4510" y="15223"/>
                  <a:pt x="4542" y="15219"/>
                  <a:pt x="4573" y="15219"/>
                </a:cubicBezTo>
                <a:cubicBezTo>
                  <a:pt x="4596" y="15219"/>
                  <a:pt x="4616" y="15223"/>
                  <a:pt x="4639" y="15225"/>
                </a:cubicBezTo>
                <a:cubicBezTo>
                  <a:pt x="4660" y="15227"/>
                  <a:pt x="4675" y="15231"/>
                  <a:pt x="4696" y="15228"/>
                </a:cubicBezTo>
                <a:cubicBezTo>
                  <a:pt x="4713" y="15226"/>
                  <a:pt x="4704" y="15222"/>
                  <a:pt x="4721" y="1521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1720" y="5514840"/>
            <a:ext cx="860400" cy="47880"/>
          </a:xfrm>
          <a:custGeom>
            <a:avLst/>
            <a:gdLst/>
            <a:ahLst/>
            <a:rect l="l" t="t" r="r" b="b"/>
            <a:pathLst>
              <a:path w="2391" h="134">
                <a:moveTo>
                  <a:pt x="2256" y="15380"/>
                </a:moveTo>
                <a:cubicBezTo>
                  <a:pt x="2242" y="15371"/>
                  <a:pt x="2238" y="15368"/>
                  <a:pt x="2227" y="15366"/>
                </a:cubicBezTo>
                <a:cubicBezTo>
                  <a:pt x="2266" y="15361"/>
                  <a:pt x="2303" y="15352"/>
                  <a:pt x="2342" y="15345"/>
                </a:cubicBezTo>
                <a:cubicBezTo>
                  <a:pt x="2362" y="15341"/>
                  <a:pt x="2382" y="15337"/>
                  <a:pt x="2402" y="15333"/>
                </a:cubicBezTo>
                <a:cubicBezTo>
                  <a:pt x="2500" y="15315"/>
                  <a:pt x="2605" y="15315"/>
                  <a:pt x="2704" y="15323"/>
                </a:cubicBezTo>
                <a:cubicBezTo>
                  <a:pt x="2802" y="15331"/>
                  <a:pt x="2897" y="15355"/>
                  <a:pt x="2994" y="15369"/>
                </a:cubicBezTo>
                <a:cubicBezTo>
                  <a:pt x="3043" y="15376"/>
                  <a:pt x="3092" y="15379"/>
                  <a:pt x="3141" y="15384"/>
                </a:cubicBezTo>
                <a:cubicBezTo>
                  <a:pt x="3185" y="15388"/>
                  <a:pt x="3228" y="15395"/>
                  <a:pt x="3271" y="15400"/>
                </a:cubicBezTo>
                <a:cubicBezTo>
                  <a:pt x="3303" y="15403"/>
                  <a:pt x="3335" y="15406"/>
                  <a:pt x="3367" y="15408"/>
                </a:cubicBezTo>
                <a:cubicBezTo>
                  <a:pt x="3394" y="15410"/>
                  <a:pt x="3422" y="15413"/>
                  <a:pt x="3447" y="15414"/>
                </a:cubicBezTo>
                <a:cubicBezTo>
                  <a:pt x="3512" y="15418"/>
                  <a:pt x="3578" y="15417"/>
                  <a:pt x="3643" y="15422"/>
                </a:cubicBezTo>
                <a:cubicBezTo>
                  <a:pt x="3665" y="15424"/>
                  <a:pt x="3686" y="15428"/>
                  <a:pt x="3707" y="15430"/>
                </a:cubicBezTo>
                <a:cubicBezTo>
                  <a:pt x="3727" y="15432"/>
                  <a:pt x="3747" y="15432"/>
                  <a:pt x="3768" y="15433"/>
                </a:cubicBezTo>
                <a:cubicBezTo>
                  <a:pt x="3805" y="15434"/>
                  <a:pt x="3841" y="15436"/>
                  <a:pt x="3878" y="15436"/>
                </a:cubicBezTo>
                <a:cubicBezTo>
                  <a:pt x="3898" y="15436"/>
                  <a:pt x="3917" y="15436"/>
                  <a:pt x="3937" y="15436"/>
                </a:cubicBezTo>
                <a:cubicBezTo>
                  <a:pt x="3981" y="15435"/>
                  <a:pt x="4025" y="15432"/>
                  <a:pt x="4069" y="15433"/>
                </a:cubicBezTo>
                <a:cubicBezTo>
                  <a:pt x="4119" y="15434"/>
                  <a:pt x="4169" y="15437"/>
                  <a:pt x="4219" y="15439"/>
                </a:cubicBezTo>
                <a:cubicBezTo>
                  <a:pt x="4252" y="15440"/>
                  <a:pt x="4285" y="15443"/>
                  <a:pt x="4318" y="15447"/>
                </a:cubicBezTo>
                <a:cubicBezTo>
                  <a:pt x="4391" y="15455"/>
                  <a:pt x="4488" y="15458"/>
                  <a:pt x="4559" y="15438"/>
                </a:cubicBezTo>
                <a:cubicBezTo>
                  <a:pt x="4580" y="15432"/>
                  <a:pt x="4598" y="15417"/>
                  <a:pt x="4617" y="1540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4080" y="5375160"/>
            <a:ext cx="905040" cy="49320"/>
          </a:xfrm>
          <a:custGeom>
            <a:avLst/>
            <a:gdLst/>
            <a:ahLst/>
            <a:rect l="l" t="t" r="r" b="b"/>
            <a:pathLst>
              <a:path w="2512" h="137">
                <a:moveTo>
                  <a:pt x="2206" y="14955"/>
                </a:moveTo>
                <a:cubicBezTo>
                  <a:pt x="2192" y="14955"/>
                  <a:pt x="2187" y="14955"/>
                  <a:pt x="2178" y="14958"/>
                </a:cubicBezTo>
                <a:cubicBezTo>
                  <a:pt x="2203" y="14956"/>
                  <a:pt x="2227" y="14956"/>
                  <a:pt x="2253" y="14950"/>
                </a:cubicBezTo>
                <a:cubicBezTo>
                  <a:pt x="2293" y="14940"/>
                  <a:pt x="2320" y="14934"/>
                  <a:pt x="2361" y="14933"/>
                </a:cubicBezTo>
                <a:cubicBezTo>
                  <a:pt x="2400" y="14932"/>
                  <a:pt x="2435" y="14940"/>
                  <a:pt x="2474" y="14944"/>
                </a:cubicBezTo>
                <a:cubicBezTo>
                  <a:pt x="2498" y="14946"/>
                  <a:pt x="2521" y="14945"/>
                  <a:pt x="2545" y="14947"/>
                </a:cubicBezTo>
                <a:cubicBezTo>
                  <a:pt x="2600" y="14952"/>
                  <a:pt x="2657" y="14952"/>
                  <a:pt x="2712" y="14961"/>
                </a:cubicBezTo>
                <a:cubicBezTo>
                  <a:pt x="2751" y="14967"/>
                  <a:pt x="2788" y="14976"/>
                  <a:pt x="2827" y="14980"/>
                </a:cubicBezTo>
                <a:cubicBezTo>
                  <a:pt x="2871" y="14984"/>
                  <a:pt x="2914" y="14994"/>
                  <a:pt x="2957" y="15000"/>
                </a:cubicBezTo>
                <a:cubicBezTo>
                  <a:pt x="2990" y="15005"/>
                  <a:pt x="3025" y="15007"/>
                  <a:pt x="3058" y="15008"/>
                </a:cubicBezTo>
                <a:cubicBezTo>
                  <a:pt x="3116" y="15010"/>
                  <a:pt x="3173" y="15013"/>
                  <a:pt x="3231" y="15016"/>
                </a:cubicBezTo>
                <a:cubicBezTo>
                  <a:pt x="3313" y="15020"/>
                  <a:pt x="3395" y="15024"/>
                  <a:pt x="3477" y="15026"/>
                </a:cubicBezTo>
                <a:cubicBezTo>
                  <a:pt x="3508" y="15027"/>
                  <a:pt x="3537" y="15028"/>
                  <a:pt x="3568" y="15030"/>
                </a:cubicBezTo>
                <a:cubicBezTo>
                  <a:pt x="3635" y="15034"/>
                  <a:pt x="3703" y="15037"/>
                  <a:pt x="3770" y="15037"/>
                </a:cubicBezTo>
                <a:cubicBezTo>
                  <a:pt x="3822" y="15037"/>
                  <a:pt x="3874" y="15033"/>
                  <a:pt x="3926" y="15030"/>
                </a:cubicBezTo>
                <a:cubicBezTo>
                  <a:pt x="3946" y="15029"/>
                  <a:pt x="3965" y="15027"/>
                  <a:pt x="3984" y="15025"/>
                </a:cubicBezTo>
                <a:cubicBezTo>
                  <a:pt x="4007" y="15023"/>
                  <a:pt x="4030" y="15020"/>
                  <a:pt x="4053" y="15019"/>
                </a:cubicBezTo>
                <a:cubicBezTo>
                  <a:pt x="4080" y="15018"/>
                  <a:pt x="4105" y="15020"/>
                  <a:pt x="4132" y="15020"/>
                </a:cubicBezTo>
                <a:cubicBezTo>
                  <a:pt x="4174" y="15020"/>
                  <a:pt x="4214" y="15026"/>
                  <a:pt x="4255" y="15026"/>
                </a:cubicBezTo>
                <a:cubicBezTo>
                  <a:pt x="4304" y="15026"/>
                  <a:pt x="4351" y="15031"/>
                  <a:pt x="4399" y="15033"/>
                </a:cubicBezTo>
                <a:cubicBezTo>
                  <a:pt x="4422" y="15034"/>
                  <a:pt x="4445" y="15034"/>
                  <a:pt x="4468" y="15037"/>
                </a:cubicBezTo>
                <a:cubicBezTo>
                  <a:pt x="4498" y="15041"/>
                  <a:pt x="4530" y="15044"/>
                  <a:pt x="4559" y="15047"/>
                </a:cubicBezTo>
                <a:cubicBezTo>
                  <a:pt x="4588" y="15050"/>
                  <a:pt x="4617" y="15054"/>
                  <a:pt x="4645" y="15058"/>
                </a:cubicBezTo>
                <a:cubicBezTo>
                  <a:pt x="4659" y="15060"/>
                  <a:pt x="4671" y="15063"/>
                  <a:pt x="4689" y="1506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21:10:31Z</dcterms:created>
  <dc:creator>Kevin and Jackie Wetmore</dc:creator>
  <dc:description/>
  <dc:language>en-US</dc:language>
  <cp:lastModifiedBy>Kevin and Jackie Wetmore</cp:lastModifiedBy>
  <dcterms:modified xsi:type="dcterms:W3CDTF">2013-08-21T04:35:54Z</dcterms:modified>
  <cp:revision>21</cp:revision>
  <dc:subject/>
  <dc:title>Slide 1</dc:title>
</cp:coreProperties>
</file>